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BC1-CB7D-4DF8-83F9-D35A2F70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78D4-E8D5-4FE5-AA4C-0B53CCE4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F3F-C622-4AC8-9310-11D4B26F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309-878B-457C-A861-7786DEBA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8F28-DF9D-416E-8028-DADB4078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9091-3AB4-4827-9343-611C422F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E218-8A3D-4D78-A683-85531EE5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4F02-B0B2-4E74-997C-43501040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0284-EE16-4ADC-9B8A-71F83C5E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3A54-6A49-4480-A96B-366111F9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905E-D218-4091-A6D2-4920E5B2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636-A844-4939-8007-6D5685B3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5E62-564A-45C9-AE3B-316B1A3F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620E-58F6-4B13-9542-BE8BCAA3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48B9-C3A3-4839-AC17-AB1CD73C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AF60-9E20-4FA8-B310-C26C375D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ABAA-9B74-457F-ACB6-B99C7FE6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0C3-5DA6-46F7-B383-AAAEF903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5BBD-5085-4A92-880D-81CCF164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FD39-9ACA-48E4-992D-630E3EC0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E015-AEB2-4524-920C-D610FD8F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6611-546F-4773-A4AA-FFCB87DA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9702-F149-4C17-A982-EA6CF3D9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2A6-C468-492C-B16F-778DDB11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EDCA-4495-4A08-BE03-2D742D780534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ACAB-752F-4B60-9CA1-024BFC27E2F3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" Target="slide17.xml"/><Relationship Id="rId5" Type="http://schemas.openxmlformats.org/officeDocument/2006/relationships/slide" Target="slide16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slide" Target="slide21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85fe85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Cloud"/>
          <p:cNvSpPr/>
          <p:nvPr/>
        </p:nvSpPr>
        <p:spPr>
          <a:xfrm>
            <a:off x="755640" y="692280"/>
            <a:ext cx="3600360" cy="18381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第五关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51280" y="2708280"/>
            <a:ext cx="3025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关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7" name=""/>
          <p:cNvSpPr/>
          <p:nvPr/>
        </p:nvSpPr>
        <p:spPr>
          <a:xfrm>
            <a:off x="3225240" y="630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关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73240" y="630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练习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8617" t="61765" r="12526" b="1275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14049" t="8493" r="10356" b="57028"/>
          <a:stretch/>
        </p:blipFill>
        <p:spPr>
          <a:xfrm>
            <a:off x="0" y="54936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14049" t="43242" r="8191" b="24020"/>
          <a:stretch/>
        </p:blipFill>
        <p:spPr>
          <a:xfrm>
            <a:off x="0" y="404640"/>
            <a:ext cx="9144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9280" y="8031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分数的意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2119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7120" y="1922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20880" y="1844640"/>
            <a:ext cx="24724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单位“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”----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6000" y="1700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个物体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个计量单位或是许多物体组成的一个整体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都可以用自然数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来表示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通常我们把它叫做单位“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1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22680" y="2840040"/>
            <a:ext cx="24724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   数</a:t>
            </a: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---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7320" y="4994280"/>
            <a:ext cx="218628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数各部分的名称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3400" y="3848040"/>
            <a:ext cx="2228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数单位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---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45040" y="3957480"/>
            <a:ext cx="35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把单位“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1”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平均分成若干份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表示其中的一份的数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617640" y="4548240"/>
            <a:ext cx="424440" cy="1123560"/>
            <a:chOff x="3617640" y="4548240"/>
            <a:chExt cx="424440" cy="1123560"/>
          </a:xfrm>
        </p:grpSpPr>
        <p:sp>
          <p:nvSpPr>
            <p:cNvPr id="142" name=""/>
            <p:cNvSpPr/>
            <p:nvPr/>
          </p:nvSpPr>
          <p:spPr>
            <a:xfrm>
              <a:off x="3620160" y="51512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7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35280" y="5157720"/>
              <a:ext cx="36036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17640" y="45482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4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211640" y="4869000"/>
            <a:ext cx="431640" cy="576000"/>
            <a:chOff x="4211640" y="4869000"/>
            <a:chExt cx="431640" cy="576000"/>
          </a:xfrm>
        </p:grpSpPr>
        <p:sp>
          <p:nvSpPr>
            <p:cNvPr id="146" name=""/>
            <p:cNvSpPr/>
            <p:nvPr/>
          </p:nvSpPr>
          <p:spPr>
            <a:xfrm>
              <a:off x="4211640" y="4869000"/>
              <a:ext cx="4316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11640" y="5157720"/>
              <a:ext cx="4316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11640" y="5445000"/>
              <a:ext cx="4316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767120" y="4581360"/>
            <a:ext cx="1819440" cy="1073880"/>
            <a:chOff x="4767120" y="4581360"/>
            <a:chExt cx="1819440" cy="1073880"/>
          </a:xfrm>
        </p:grpSpPr>
        <p:sp>
          <p:nvSpPr>
            <p:cNvPr id="150" name=""/>
            <p:cNvSpPr/>
            <p:nvPr/>
          </p:nvSpPr>
          <p:spPr>
            <a:xfrm>
              <a:off x="4986360" y="4894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分数线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767120" y="4581360"/>
              <a:ext cx="1819440" cy="1073880"/>
              <a:chOff x="4767120" y="4581360"/>
              <a:chExt cx="1819440" cy="1073880"/>
            </a:xfrm>
          </p:grpSpPr>
          <p:sp>
            <p:nvSpPr>
              <p:cNvPr id="152" name=""/>
              <p:cNvSpPr/>
              <p:nvPr/>
            </p:nvSpPr>
            <p:spPr>
              <a:xfrm>
                <a:off x="4767120" y="4581360"/>
                <a:ext cx="181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a77"/>
                    </a:solidFill>
                    <a:latin typeface="Arial"/>
                    <a:ea typeface="楷体_GB2312"/>
                  </a:rPr>
                  <a:t>分子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939920" y="51955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a77"/>
                    </a:solidFill>
                    <a:latin typeface="Arial"/>
                    <a:ea typeface="楷体_GB2312"/>
                  </a:rPr>
                  <a:t>分母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6362280" y="522756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表示平均分的份数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72000" y="458136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表示所取的份数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27280" y="2852640"/>
            <a:ext cx="60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把单位“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均分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成若干份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表示这样的一份或者几份的数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叫做分数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348000" y="189000"/>
            <a:ext cx="2160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分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8317080" y="6093000"/>
            <a:ext cx="826920" cy="431640"/>
          </a:xfrm>
          <a:custGeom>
            <a:avLst/>
            <a:gdLst>
              <a:gd name="textAreaLeft" fmla="*/ 27720 w 826920"/>
              <a:gd name="textAreaRight" fmla="*/ 799200 w 82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1364" h="21600">
                <a:moveTo>
                  <a:pt x="0" y="0"/>
                </a:moveTo>
                <a:lnTo>
                  <a:pt x="41364" y="0"/>
                </a:lnTo>
                <a:lnTo>
                  <a:pt x="41364" y="21600"/>
                </a:lnTo>
                <a:lnTo>
                  <a:pt x="0" y="21600"/>
                </a:lnTo>
                <a:close/>
              </a:path>
              <a:path fill="lightenLess" w="41364" h="21600">
                <a:moveTo>
                  <a:pt x="0" y="0"/>
                </a:moveTo>
                <a:lnTo>
                  <a:pt x="41364" y="0"/>
                </a:lnTo>
                <a:lnTo>
                  <a:pt x="39964" y="1400"/>
                </a:lnTo>
                <a:lnTo>
                  <a:pt x="1400" y="1400"/>
                </a:lnTo>
                <a:close/>
              </a:path>
              <a:path fill="darken" w="41364" h="21600">
                <a:moveTo>
                  <a:pt x="41364" y="0"/>
                </a:moveTo>
                <a:lnTo>
                  <a:pt x="41364" y="21600"/>
                </a:lnTo>
                <a:lnTo>
                  <a:pt x="39964" y="20200"/>
                </a:lnTo>
                <a:lnTo>
                  <a:pt x="39964" y="1400"/>
                </a:lnTo>
                <a:close/>
              </a:path>
              <a:path fill="darkenLess" w="41364" h="21600">
                <a:moveTo>
                  <a:pt x="41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4" y="20200"/>
                </a:lnTo>
                <a:close/>
              </a:path>
              <a:path fill="lighten" w="41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64" h="21600">
                <a:moveTo>
                  <a:pt x="20682" y="3837"/>
                </a:moveTo>
                <a:lnTo>
                  <a:pt x="23258" y="6448"/>
                </a:lnTo>
                <a:lnTo>
                  <a:pt x="23258" y="4707"/>
                </a:lnTo>
                <a:lnTo>
                  <a:pt x="25034" y="4707"/>
                </a:lnTo>
                <a:lnTo>
                  <a:pt x="25034" y="8224"/>
                </a:lnTo>
                <a:lnTo>
                  <a:pt x="27645" y="10800"/>
                </a:lnTo>
                <a:lnTo>
                  <a:pt x="25991" y="10800"/>
                </a:lnTo>
                <a:lnTo>
                  <a:pt x="25991" y="17989"/>
                </a:lnTo>
                <a:lnTo>
                  <a:pt x="15373" y="17989"/>
                </a:lnTo>
                <a:lnTo>
                  <a:pt x="15373" y="10800"/>
                </a:lnTo>
                <a:lnTo>
                  <a:pt x="13719" y="10800"/>
                </a:lnTo>
                <a:close/>
              </a:path>
              <a:path fill="darkenLess" w="41364" h="21600">
                <a:moveTo>
                  <a:pt x="23258" y="6448"/>
                </a:moveTo>
                <a:lnTo>
                  <a:pt x="23258" y="4707"/>
                </a:lnTo>
                <a:lnTo>
                  <a:pt x="25034" y="4707"/>
                </a:lnTo>
                <a:lnTo>
                  <a:pt x="25034" y="8224"/>
                </a:lnTo>
                <a:close/>
              </a:path>
              <a:path fill="darkenLess" w="41364" h="21600">
                <a:moveTo>
                  <a:pt x="19759" y="14299"/>
                </a:moveTo>
                <a:lnTo>
                  <a:pt x="21605" y="14299"/>
                </a:lnTo>
                <a:lnTo>
                  <a:pt x="21605" y="17989"/>
                </a:lnTo>
                <a:lnTo>
                  <a:pt x="25991" y="17989"/>
                </a:lnTo>
                <a:lnTo>
                  <a:pt x="25991" y="10800"/>
                </a:lnTo>
                <a:lnTo>
                  <a:pt x="15373" y="10800"/>
                </a:lnTo>
                <a:lnTo>
                  <a:pt x="15373" y="17989"/>
                </a:lnTo>
                <a:lnTo>
                  <a:pt x="19759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71640" y="9079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79a5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7979a5"/>
                </a:solidFill>
                <a:latin typeface="楷体_GB2312"/>
                <a:ea typeface="楷体_GB2312"/>
              </a:rPr>
              <a:t>分数的分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22129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47520" y="2373480"/>
            <a:ext cx="14000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真分数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—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48292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分子比分母小的分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79640" y="377820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分子比分母大或者分子和分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相等的分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2360" y="23781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真分数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&lt;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59280" y="415296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假分数≥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19160" y="5157720"/>
            <a:ext cx="14000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带分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—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98640" y="5137200"/>
            <a:ext cx="89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个整数带上一个分数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那个分数小于一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40360" y="5516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带分数＞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56080" y="3645000"/>
            <a:ext cx="1726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假分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6267" y="3837"/>
                </a:moveTo>
                <a:lnTo>
                  <a:pt x="18844" y="6448"/>
                </a:lnTo>
                <a:lnTo>
                  <a:pt x="18844" y="4707"/>
                </a:lnTo>
                <a:lnTo>
                  <a:pt x="20619" y="4707"/>
                </a:lnTo>
                <a:lnTo>
                  <a:pt x="20619" y="8224"/>
                </a:lnTo>
                <a:lnTo>
                  <a:pt x="23230" y="10800"/>
                </a:lnTo>
                <a:lnTo>
                  <a:pt x="21577" y="10800"/>
                </a:lnTo>
                <a:lnTo>
                  <a:pt x="21577" y="17989"/>
                </a:lnTo>
                <a:lnTo>
                  <a:pt x="10958" y="17989"/>
                </a:lnTo>
                <a:lnTo>
                  <a:pt x="10958" y="10800"/>
                </a:lnTo>
                <a:lnTo>
                  <a:pt x="9304" y="10800"/>
                </a:lnTo>
                <a:close/>
              </a:path>
              <a:path fill="darkenLess" w="32535" h="21600">
                <a:moveTo>
                  <a:pt x="18844" y="6448"/>
                </a:moveTo>
                <a:lnTo>
                  <a:pt x="18844" y="4707"/>
                </a:lnTo>
                <a:lnTo>
                  <a:pt x="20619" y="4707"/>
                </a:lnTo>
                <a:lnTo>
                  <a:pt x="20619" y="8224"/>
                </a:lnTo>
                <a:close/>
              </a:path>
              <a:path fill="darkenLess" w="32535" h="21600">
                <a:moveTo>
                  <a:pt x="15345" y="14299"/>
                </a:moveTo>
                <a:lnTo>
                  <a:pt x="17190" y="14299"/>
                </a:lnTo>
                <a:lnTo>
                  <a:pt x="17190" y="17989"/>
                </a:lnTo>
                <a:lnTo>
                  <a:pt x="21577" y="17989"/>
                </a:lnTo>
                <a:lnTo>
                  <a:pt x="21577" y="10800"/>
                </a:lnTo>
                <a:lnTo>
                  <a:pt x="10958" y="10800"/>
                </a:lnTo>
                <a:lnTo>
                  <a:pt x="10958" y="17989"/>
                </a:lnTo>
                <a:lnTo>
                  <a:pt x="15345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0920" y="4446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数大小的比较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57360" y="1628640"/>
            <a:ext cx="55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母相同的两个分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子大的分数比较大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30440" y="2968560"/>
            <a:ext cx="55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子相同的两个分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母小的分数比较大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835280" y="2276640"/>
            <a:ext cx="4242600" cy="707400"/>
            <a:chOff x="1835280" y="2276640"/>
            <a:chExt cx="4242600" cy="707400"/>
          </a:xfrm>
        </p:grpSpPr>
        <p:sp>
          <p:nvSpPr>
            <p:cNvPr id="175" name=""/>
            <p:cNvSpPr/>
            <p:nvPr/>
          </p:nvSpPr>
          <p:spPr>
            <a:xfrm>
              <a:off x="1835280" y="2289240"/>
              <a:ext cx="62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 1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8000" y="2628720"/>
              <a:ext cx="4312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23840" y="2276640"/>
              <a:ext cx="49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 0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 1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1640" y="2341440"/>
              <a:ext cx="49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 5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80000" y="2341440"/>
              <a:ext cx="49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 5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14560" y="2617560"/>
              <a:ext cx="3600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2360" y="2682720"/>
              <a:ext cx="3600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70360" y="2681280"/>
              <a:ext cx="3600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09480" y="2484360"/>
              <a:ext cx="360000" cy="360000"/>
            </a:xfrm>
            <a:prstGeom prst="ellipse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46560" y="2485800"/>
              <a:ext cx="360000" cy="360000"/>
            </a:xfrm>
            <a:prstGeom prst="ellipse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981080" y="3443400"/>
            <a:ext cx="4195800" cy="707400"/>
            <a:chOff x="1981080" y="3443400"/>
            <a:chExt cx="4195800" cy="707400"/>
          </a:xfrm>
        </p:grpSpPr>
        <p:sp>
          <p:nvSpPr>
            <p:cNvPr id="186" name=""/>
            <p:cNvSpPr/>
            <p:nvPr/>
          </p:nvSpPr>
          <p:spPr>
            <a:xfrm>
              <a:off x="1981080" y="3456000"/>
              <a:ext cx="62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54160" y="3795480"/>
              <a:ext cx="43164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70360" y="3443400"/>
              <a:ext cx="37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8160" y="3508200"/>
              <a:ext cx="49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26520" y="3508200"/>
              <a:ext cx="43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60720" y="3784320"/>
              <a:ext cx="36036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08520" y="3849480"/>
              <a:ext cx="36036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16520" y="3848040"/>
              <a:ext cx="36036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55640" y="3651120"/>
              <a:ext cx="360360" cy="360000"/>
            </a:xfrm>
            <a:prstGeom prst="ellipse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92720" y="3652560"/>
              <a:ext cx="360360" cy="360000"/>
            </a:xfrm>
            <a:prstGeom prst="ellipse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485800" y="2421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&lt;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22880" y="2421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&gt;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8880" y="357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94160" y="3619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41497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通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先求出原来几个分母的最小公倍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然后把各个分数分别化成用这个最小公倍数作分母的分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684440" y="5451480"/>
            <a:ext cx="2080080" cy="642600"/>
            <a:chOff x="1684440" y="5451480"/>
            <a:chExt cx="2080080" cy="642600"/>
          </a:xfrm>
        </p:grpSpPr>
        <p:sp>
          <p:nvSpPr>
            <p:cNvPr id="202" name=""/>
            <p:cNvSpPr/>
            <p:nvPr/>
          </p:nvSpPr>
          <p:spPr>
            <a:xfrm>
              <a:off x="1684440" y="5451480"/>
              <a:ext cx="208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buClr>
                  <a:srgbClr val="007a77"/>
                </a:buClr>
                <a:buFont typeface="Arial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</a:rPr>
                <a:t>           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6               9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28960" y="5792760"/>
              <a:ext cx="36036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36960" y="5792760"/>
              <a:ext cx="36036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33680" y="5576760"/>
              <a:ext cx="431640" cy="432000"/>
            </a:xfrm>
            <a:prstGeom prst="ellipse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557440" y="5589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8101080" y="6354720"/>
            <a:ext cx="1042920" cy="503280"/>
          </a:xfrm>
          <a:custGeom>
            <a:avLst/>
            <a:gdLst>
              <a:gd name="textAreaLeft" fmla="*/ 32400 w 1042920"/>
              <a:gd name="textAreaRight" fmla="*/ 1010520 w 1042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4744" h="21600">
                <a:moveTo>
                  <a:pt x="0" y="0"/>
                </a:moveTo>
                <a:lnTo>
                  <a:pt x="44744" y="0"/>
                </a:lnTo>
                <a:lnTo>
                  <a:pt x="44744" y="21600"/>
                </a:lnTo>
                <a:lnTo>
                  <a:pt x="0" y="21600"/>
                </a:lnTo>
                <a:close/>
              </a:path>
              <a:path fill="lightenLess" w="44744" h="21600">
                <a:moveTo>
                  <a:pt x="0" y="0"/>
                </a:moveTo>
                <a:lnTo>
                  <a:pt x="44744" y="0"/>
                </a:lnTo>
                <a:lnTo>
                  <a:pt x="43344" y="1400"/>
                </a:lnTo>
                <a:lnTo>
                  <a:pt x="1400" y="1400"/>
                </a:lnTo>
                <a:close/>
              </a:path>
              <a:path fill="darken" w="44744" h="21600">
                <a:moveTo>
                  <a:pt x="44744" y="0"/>
                </a:moveTo>
                <a:lnTo>
                  <a:pt x="44744" y="21600"/>
                </a:lnTo>
                <a:lnTo>
                  <a:pt x="43344" y="20200"/>
                </a:lnTo>
                <a:lnTo>
                  <a:pt x="43344" y="1400"/>
                </a:lnTo>
                <a:close/>
              </a:path>
              <a:path fill="darkenLess" w="44744" h="21600">
                <a:moveTo>
                  <a:pt x="44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44" y="20200"/>
                </a:lnTo>
                <a:close/>
              </a:path>
              <a:path fill="lighten" w="44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44" h="21600">
                <a:moveTo>
                  <a:pt x="22372" y="3837"/>
                </a:moveTo>
                <a:lnTo>
                  <a:pt x="24948" y="6448"/>
                </a:lnTo>
                <a:lnTo>
                  <a:pt x="24948" y="4707"/>
                </a:lnTo>
                <a:lnTo>
                  <a:pt x="26724" y="4707"/>
                </a:lnTo>
                <a:lnTo>
                  <a:pt x="26724" y="8224"/>
                </a:lnTo>
                <a:lnTo>
                  <a:pt x="29335" y="10800"/>
                </a:lnTo>
                <a:lnTo>
                  <a:pt x="27681" y="10800"/>
                </a:lnTo>
                <a:lnTo>
                  <a:pt x="27681" y="17989"/>
                </a:lnTo>
                <a:lnTo>
                  <a:pt x="17063" y="17989"/>
                </a:lnTo>
                <a:lnTo>
                  <a:pt x="17063" y="10800"/>
                </a:lnTo>
                <a:lnTo>
                  <a:pt x="15409" y="10800"/>
                </a:lnTo>
                <a:close/>
              </a:path>
              <a:path fill="darkenLess" w="44744" h="21600">
                <a:moveTo>
                  <a:pt x="24948" y="6448"/>
                </a:moveTo>
                <a:lnTo>
                  <a:pt x="24948" y="4707"/>
                </a:lnTo>
                <a:lnTo>
                  <a:pt x="26724" y="4707"/>
                </a:lnTo>
                <a:lnTo>
                  <a:pt x="26724" y="8224"/>
                </a:lnTo>
                <a:close/>
              </a:path>
              <a:path fill="darkenLess" w="44744" h="21600">
                <a:moveTo>
                  <a:pt x="21449" y="14299"/>
                </a:moveTo>
                <a:lnTo>
                  <a:pt x="23295" y="14299"/>
                </a:lnTo>
                <a:lnTo>
                  <a:pt x="23295" y="17989"/>
                </a:lnTo>
                <a:lnTo>
                  <a:pt x="27681" y="17989"/>
                </a:lnTo>
                <a:lnTo>
                  <a:pt x="27681" y="10800"/>
                </a:lnTo>
                <a:lnTo>
                  <a:pt x="17063" y="10800"/>
                </a:lnTo>
                <a:lnTo>
                  <a:pt x="17063" y="17989"/>
                </a:lnTo>
                <a:lnTo>
                  <a:pt x="21449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16000" y="404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数与除法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28120" y="191628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分数与除法的关系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08000" y="2997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被除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除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=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359240" y="2781360"/>
            <a:ext cx="1364400" cy="898920"/>
            <a:chOff x="4359240" y="2781360"/>
            <a:chExt cx="1364400" cy="898920"/>
          </a:xfrm>
        </p:grpSpPr>
        <p:sp>
          <p:nvSpPr>
            <p:cNvPr id="212" name=""/>
            <p:cNvSpPr/>
            <p:nvPr/>
          </p:nvSpPr>
          <p:spPr>
            <a:xfrm>
              <a:off x="4398480" y="27813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被除数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82360" y="32205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除数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59240" y="3317040"/>
              <a:ext cx="13644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5742000" y="314172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除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Arial"/>
              </a:rPr>
              <a:t>≠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Arial"/>
              </a:rPr>
              <a:t>0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050920" y="4292640"/>
            <a:ext cx="2739960" cy="920880"/>
            <a:chOff x="2050920" y="4292640"/>
            <a:chExt cx="2739960" cy="920880"/>
          </a:xfrm>
        </p:grpSpPr>
        <p:sp>
          <p:nvSpPr>
            <p:cNvPr id="217" name=""/>
            <p:cNvSpPr/>
            <p:nvPr/>
          </p:nvSpPr>
          <p:spPr>
            <a:xfrm>
              <a:off x="2050920" y="4515480"/>
              <a:ext cx="118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a÷b</a:t>
              </a:r>
              <a:r>
                <a:rPr b="1" lang="en-US" sz="2400" spc="-1" strike="noStrike">
                  <a:solidFill>
                    <a:srgbClr val="007a77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3191760" y="4292640"/>
              <a:ext cx="403200" cy="920880"/>
              <a:chOff x="3191760" y="4292640"/>
              <a:chExt cx="403200" cy="920880"/>
            </a:xfrm>
          </p:grpSpPr>
          <p:sp>
            <p:nvSpPr>
              <p:cNvPr id="219" name=""/>
              <p:cNvSpPr/>
              <p:nvPr/>
            </p:nvSpPr>
            <p:spPr>
              <a:xfrm>
                <a:off x="3199320" y="429264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宋体"/>
                  </a:rPr>
                  <a:t>a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191760" y="47538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宋体"/>
                  </a:rPr>
                  <a:t>b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237120" y="4903920"/>
                <a:ext cx="3578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861720" y="4487760"/>
              <a:ext cx="9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(b</a:t>
              </a:r>
              <a:r>
                <a:rPr b="1" lang="en-US" sz="2400" spc="-1" strike="noStrike">
                  <a:solidFill>
                    <a:srgbClr val="0000ff"/>
                  </a:solidFill>
                  <a:latin typeface="宋体"/>
                  <a:ea typeface="Arial"/>
                </a:rPr>
                <a:t>≠0)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862360" y="386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8101080" y="6165720"/>
            <a:ext cx="1042920" cy="540000"/>
          </a:xfrm>
          <a:custGeom>
            <a:avLst/>
            <a:gdLst>
              <a:gd name="textAreaLeft" fmla="*/ 34920 w 1042920"/>
              <a:gd name="textAreaRight" fmla="*/ 1008000 w 1042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1703" h="21600">
                <a:moveTo>
                  <a:pt x="0" y="0"/>
                </a:moveTo>
                <a:lnTo>
                  <a:pt x="41703" y="0"/>
                </a:lnTo>
                <a:lnTo>
                  <a:pt x="41703" y="21600"/>
                </a:lnTo>
                <a:lnTo>
                  <a:pt x="0" y="21600"/>
                </a:lnTo>
                <a:close/>
              </a:path>
              <a:path fill="lightenLess" w="41703" h="21600">
                <a:moveTo>
                  <a:pt x="0" y="0"/>
                </a:moveTo>
                <a:lnTo>
                  <a:pt x="41703" y="0"/>
                </a:lnTo>
                <a:lnTo>
                  <a:pt x="40303" y="1400"/>
                </a:lnTo>
                <a:lnTo>
                  <a:pt x="1400" y="1400"/>
                </a:lnTo>
                <a:close/>
              </a:path>
              <a:path fill="darken" w="41703" h="21600">
                <a:moveTo>
                  <a:pt x="41703" y="0"/>
                </a:moveTo>
                <a:lnTo>
                  <a:pt x="41703" y="21600"/>
                </a:lnTo>
                <a:lnTo>
                  <a:pt x="40303" y="20200"/>
                </a:lnTo>
                <a:lnTo>
                  <a:pt x="40303" y="1400"/>
                </a:lnTo>
                <a:close/>
              </a:path>
              <a:path fill="darkenLess" w="41703" h="21600">
                <a:moveTo>
                  <a:pt x="41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03" y="20200"/>
                </a:lnTo>
                <a:close/>
              </a:path>
              <a:path fill="lighten" w="41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03" h="21600">
                <a:moveTo>
                  <a:pt x="20852" y="3837"/>
                </a:moveTo>
                <a:lnTo>
                  <a:pt x="23428" y="6448"/>
                </a:lnTo>
                <a:lnTo>
                  <a:pt x="23428" y="4707"/>
                </a:lnTo>
                <a:lnTo>
                  <a:pt x="25204" y="4707"/>
                </a:lnTo>
                <a:lnTo>
                  <a:pt x="25204" y="8224"/>
                </a:lnTo>
                <a:lnTo>
                  <a:pt x="27815" y="10800"/>
                </a:lnTo>
                <a:lnTo>
                  <a:pt x="26161" y="10800"/>
                </a:lnTo>
                <a:lnTo>
                  <a:pt x="26161" y="17989"/>
                </a:lnTo>
                <a:lnTo>
                  <a:pt x="15542" y="17989"/>
                </a:lnTo>
                <a:lnTo>
                  <a:pt x="15542" y="10800"/>
                </a:lnTo>
                <a:lnTo>
                  <a:pt x="13889" y="10800"/>
                </a:lnTo>
                <a:close/>
              </a:path>
              <a:path fill="darkenLess" w="41703" h="21600">
                <a:moveTo>
                  <a:pt x="23428" y="6448"/>
                </a:moveTo>
                <a:lnTo>
                  <a:pt x="23428" y="4707"/>
                </a:lnTo>
                <a:lnTo>
                  <a:pt x="25204" y="4707"/>
                </a:lnTo>
                <a:lnTo>
                  <a:pt x="25204" y="8224"/>
                </a:lnTo>
                <a:close/>
              </a:path>
              <a:path fill="darkenLess" w="41703" h="21600">
                <a:moveTo>
                  <a:pt x="19929" y="14299"/>
                </a:moveTo>
                <a:lnTo>
                  <a:pt x="21774" y="14299"/>
                </a:lnTo>
                <a:lnTo>
                  <a:pt x="21774" y="17989"/>
                </a:lnTo>
                <a:lnTo>
                  <a:pt x="26161" y="17989"/>
                </a:lnTo>
                <a:lnTo>
                  <a:pt x="26161" y="10800"/>
                </a:lnTo>
                <a:lnTo>
                  <a:pt x="15542" y="10800"/>
                </a:lnTo>
                <a:lnTo>
                  <a:pt x="15542" y="17989"/>
                </a:lnTo>
                <a:lnTo>
                  <a:pt x="19929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11280" y="126828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分数的基本性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79520" y="2205000"/>
            <a:ext cx="474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数的分子和分母同时乘以或者除以相同的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零除外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数的大小不变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4221000"/>
            <a:ext cx="907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个分数的分母不变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子乘以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,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则这个分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           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分子不变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母除以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,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则这个分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           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/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分子加上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要使分数大小不变，分母应该加上（    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95640" y="2708280"/>
            <a:ext cx="649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88000" y="2708280"/>
            <a:ext cx="194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48360" y="2708280"/>
            <a:ext cx="129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16000" y="3141720"/>
            <a:ext cx="1440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11840" y="4195800"/>
            <a:ext cx="18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扩大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4941720"/>
            <a:ext cx="15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扩大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19240" y="5661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">
            <a:hlinkClick r:id="rId1" action="ppaction://hlinksldjump"/>
          </p:cNvPr>
          <p:cNvSpPr/>
          <p:nvPr/>
        </p:nvSpPr>
        <p:spPr>
          <a:xfrm>
            <a:off x="8101080" y="6381720"/>
            <a:ext cx="1042920" cy="476280"/>
          </a:xfrm>
          <a:custGeom>
            <a:avLst/>
            <a:gdLst>
              <a:gd name="textAreaLeft" fmla="*/ 30600 w 1042920"/>
              <a:gd name="textAreaRight" fmla="*/ 1012320 w 1042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7279" h="21600">
                <a:moveTo>
                  <a:pt x="0" y="0"/>
                </a:moveTo>
                <a:lnTo>
                  <a:pt x="47279" y="0"/>
                </a:lnTo>
                <a:lnTo>
                  <a:pt x="47279" y="21600"/>
                </a:lnTo>
                <a:lnTo>
                  <a:pt x="0" y="21600"/>
                </a:lnTo>
                <a:close/>
              </a:path>
              <a:path fill="lightenLess" w="47279" h="21600">
                <a:moveTo>
                  <a:pt x="0" y="0"/>
                </a:moveTo>
                <a:lnTo>
                  <a:pt x="47279" y="0"/>
                </a:lnTo>
                <a:lnTo>
                  <a:pt x="45879" y="1400"/>
                </a:lnTo>
                <a:lnTo>
                  <a:pt x="1400" y="1400"/>
                </a:lnTo>
                <a:close/>
              </a:path>
              <a:path fill="darken" w="47279" h="21600">
                <a:moveTo>
                  <a:pt x="47279" y="0"/>
                </a:moveTo>
                <a:lnTo>
                  <a:pt x="47279" y="21600"/>
                </a:lnTo>
                <a:lnTo>
                  <a:pt x="45879" y="20200"/>
                </a:lnTo>
                <a:lnTo>
                  <a:pt x="45879" y="1400"/>
                </a:lnTo>
                <a:close/>
              </a:path>
              <a:path fill="darkenLess" w="47279" h="21600">
                <a:moveTo>
                  <a:pt x="47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879" y="20200"/>
                </a:lnTo>
                <a:close/>
              </a:path>
              <a:path fill="lighten" w="47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279" h="21600">
                <a:moveTo>
                  <a:pt x="23639" y="3837"/>
                </a:moveTo>
                <a:lnTo>
                  <a:pt x="26216" y="6448"/>
                </a:lnTo>
                <a:lnTo>
                  <a:pt x="26216" y="4707"/>
                </a:lnTo>
                <a:lnTo>
                  <a:pt x="27991" y="4707"/>
                </a:lnTo>
                <a:lnTo>
                  <a:pt x="27991" y="8224"/>
                </a:lnTo>
                <a:lnTo>
                  <a:pt x="30602" y="10800"/>
                </a:lnTo>
                <a:lnTo>
                  <a:pt x="28949" y="10800"/>
                </a:lnTo>
                <a:lnTo>
                  <a:pt x="28949" y="17989"/>
                </a:lnTo>
                <a:lnTo>
                  <a:pt x="18330" y="17989"/>
                </a:lnTo>
                <a:lnTo>
                  <a:pt x="18330" y="10800"/>
                </a:lnTo>
                <a:lnTo>
                  <a:pt x="16676" y="10800"/>
                </a:lnTo>
                <a:close/>
              </a:path>
              <a:path fill="darkenLess" w="47279" h="21600">
                <a:moveTo>
                  <a:pt x="26216" y="6448"/>
                </a:moveTo>
                <a:lnTo>
                  <a:pt x="26216" y="4707"/>
                </a:lnTo>
                <a:lnTo>
                  <a:pt x="27991" y="4707"/>
                </a:lnTo>
                <a:lnTo>
                  <a:pt x="27991" y="8224"/>
                </a:lnTo>
                <a:close/>
              </a:path>
              <a:path fill="darkenLess" w="47279" h="21600">
                <a:moveTo>
                  <a:pt x="22717" y="14299"/>
                </a:moveTo>
                <a:lnTo>
                  <a:pt x="24562" y="14299"/>
                </a:lnTo>
                <a:lnTo>
                  <a:pt x="24562" y="17989"/>
                </a:lnTo>
                <a:lnTo>
                  <a:pt x="28949" y="17989"/>
                </a:lnTo>
                <a:lnTo>
                  <a:pt x="28949" y="10800"/>
                </a:lnTo>
                <a:lnTo>
                  <a:pt x="18330" y="10800"/>
                </a:lnTo>
                <a:lnTo>
                  <a:pt x="18330" y="17989"/>
                </a:lnTo>
                <a:lnTo>
                  <a:pt x="22717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39640" y="63972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约分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1916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48680" y="1700280"/>
            <a:ext cx="336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约分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------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把一个分数化成和它相等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但分子和分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 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都比较小的分数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3480" y="3002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2852640"/>
            <a:ext cx="7437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约分的方法</a:t>
            </a: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用分子分母的公约数</a:t>
            </a: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(1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除外</a:t>
            </a: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逐次去除分子和分母</a:t>
            </a: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直到得到最简分数为止</a:t>
            </a: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用分子和分母的最大公约数去除分子和分母</a:t>
            </a: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26920" y="501336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注意：一般约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最简分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为止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6120" y="5734080"/>
            <a:ext cx="95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最简分数：分数的分子和分母的公因数只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分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101080" y="6318360"/>
            <a:ext cx="1042920" cy="539640"/>
          </a:xfrm>
          <a:custGeom>
            <a:avLst/>
            <a:gdLst>
              <a:gd name="textAreaLeft" fmla="*/ 34920 w 1042920"/>
              <a:gd name="textAreaRight" fmla="*/ 1008000 w 1042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31" h="21600">
                <a:moveTo>
                  <a:pt x="0" y="0"/>
                </a:moveTo>
                <a:lnTo>
                  <a:pt x="41731" y="0"/>
                </a:lnTo>
                <a:lnTo>
                  <a:pt x="41731" y="21600"/>
                </a:lnTo>
                <a:lnTo>
                  <a:pt x="0" y="21600"/>
                </a:lnTo>
                <a:close/>
              </a:path>
              <a:path fill="lightenLess" w="41731" h="21600">
                <a:moveTo>
                  <a:pt x="0" y="0"/>
                </a:moveTo>
                <a:lnTo>
                  <a:pt x="41731" y="0"/>
                </a:lnTo>
                <a:lnTo>
                  <a:pt x="40331" y="1400"/>
                </a:lnTo>
                <a:lnTo>
                  <a:pt x="1400" y="1400"/>
                </a:lnTo>
                <a:close/>
              </a:path>
              <a:path fill="darken" w="41731" h="21600">
                <a:moveTo>
                  <a:pt x="41731" y="0"/>
                </a:moveTo>
                <a:lnTo>
                  <a:pt x="41731" y="21600"/>
                </a:lnTo>
                <a:lnTo>
                  <a:pt x="40331" y="20200"/>
                </a:lnTo>
                <a:lnTo>
                  <a:pt x="40331" y="1400"/>
                </a:lnTo>
                <a:close/>
              </a:path>
              <a:path fill="darkenLess" w="41731" h="21600">
                <a:moveTo>
                  <a:pt x="41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31" y="20200"/>
                </a:lnTo>
                <a:close/>
              </a:path>
              <a:path fill="lighten" w="41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31" h="21600">
                <a:moveTo>
                  <a:pt x="20866" y="3837"/>
                </a:moveTo>
                <a:lnTo>
                  <a:pt x="23442" y="6448"/>
                </a:lnTo>
                <a:lnTo>
                  <a:pt x="23442" y="4707"/>
                </a:lnTo>
                <a:lnTo>
                  <a:pt x="25217" y="4707"/>
                </a:lnTo>
                <a:lnTo>
                  <a:pt x="25217" y="8224"/>
                </a:lnTo>
                <a:lnTo>
                  <a:pt x="27829" y="10800"/>
                </a:lnTo>
                <a:lnTo>
                  <a:pt x="26175" y="10800"/>
                </a:lnTo>
                <a:lnTo>
                  <a:pt x="26175" y="17989"/>
                </a:lnTo>
                <a:lnTo>
                  <a:pt x="15556" y="17989"/>
                </a:lnTo>
                <a:lnTo>
                  <a:pt x="15556" y="10800"/>
                </a:lnTo>
                <a:lnTo>
                  <a:pt x="13903" y="10800"/>
                </a:lnTo>
                <a:close/>
              </a:path>
              <a:path fill="darkenLess" w="41731" h="21600">
                <a:moveTo>
                  <a:pt x="23442" y="6448"/>
                </a:moveTo>
                <a:lnTo>
                  <a:pt x="23442" y="4707"/>
                </a:lnTo>
                <a:lnTo>
                  <a:pt x="25217" y="4707"/>
                </a:lnTo>
                <a:lnTo>
                  <a:pt x="25217" y="8224"/>
                </a:lnTo>
                <a:close/>
              </a:path>
              <a:path fill="darkenLess" w="41731" h="21600">
                <a:moveTo>
                  <a:pt x="19943" y="14299"/>
                </a:moveTo>
                <a:lnTo>
                  <a:pt x="21788" y="14299"/>
                </a:lnTo>
                <a:lnTo>
                  <a:pt x="21788" y="17989"/>
                </a:lnTo>
                <a:lnTo>
                  <a:pt x="26175" y="17989"/>
                </a:lnTo>
                <a:lnTo>
                  <a:pt x="26175" y="10800"/>
                </a:lnTo>
                <a:lnTo>
                  <a:pt x="15556" y="10800"/>
                </a:lnTo>
                <a:lnTo>
                  <a:pt x="15556" y="17989"/>
                </a:lnTo>
                <a:lnTo>
                  <a:pt x="19943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6716" t="17469" r="11452" b="59078"/>
          <a:stretch/>
        </p:blipFill>
        <p:spPr>
          <a:xfrm>
            <a:off x="0" y="549360"/>
            <a:ext cx="9217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826920" y="256536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把整数“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平均分成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份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10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份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样的一份或几份分别是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之几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百分之几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可以用小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24360" y="3500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994040" y="5157720"/>
            <a:ext cx="4177440" cy="649080"/>
            <a:chOff x="1994040" y="5157720"/>
            <a:chExt cx="4177440" cy="649080"/>
          </a:xfrm>
        </p:grpSpPr>
        <p:sp>
          <p:nvSpPr>
            <p:cNvPr id="247" name=""/>
            <p:cNvSpPr/>
            <p:nvPr/>
          </p:nvSpPr>
          <p:spPr>
            <a:xfrm>
              <a:off x="1994040" y="5300640"/>
              <a:ext cx="417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Arial"/>
                </a:rPr>
                <a:t>如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:         </a:t>
              </a:r>
              <a:r>
                <a:rPr b="1" lang="zh-CN" sz="1800" spc="-1" strike="noStrike">
                  <a:solidFill>
                    <a:srgbClr val="007a77"/>
                  </a:solidFill>
                  <a:latin typeface="Arial"/>
                </a:rPr>
                <a:t>记作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:0.1               </a:t>
              </a:r>
              <a:r>
                <a:rPr b="1" lang="zh-CN" sz="1800" spc="-1" strike="noStrike">
                  <a:solidFill>
                    <a:srgbClr val="007a77"/>
                  </a:solidFill>
                  <a:latin typeface="Arial"/>
                </a:rPr>
                <a:t>记作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:0.08</a:t>
              </a:r>
              <a:r>
                <a:rPr b="0" lang="en-US" sz="1800" spc="-1" strike="noStrike">
                  <a:solidFill>
                    <a:srgbClr val="007a77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313000" y="5164200"/>
              <a:ext cx="497880" cy="642600"/>
              <a:chOff x="2313000" y="5164200"/>
              <a:chExt cx="497880" cy="642600"/>
            </a:xfrm>
          </p:grpSpPr>
          <p:sp>
            <p:nvSpPr>
              <p:cNvPr id="249" name=""/>
              <p:cNvSpPr/>
              <p:nvPr/>
            </p:nvSpPr>
            <p:spPr>
              <a:xfrm>
                <a:off x="2313000" y="5164200"/>
                <a:ext cx="497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7a77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7a77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7a77"/>
                    </a:solidFill>
                    <a:latin typeface="Arial"/>
                  </a:rPr>
                  <a:t>1 0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403360" y="5503680"/>
                <a:ext cx="36036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3969000" y="5157720"/>
              <a:ext cx="560160" cy="642600"/>
              <a:chOff x="3969000" y="5157720"/>
              <a:chExt cx="560160" cy="642600"/>
            </a:xfrm>
          </p:grpSpPr>
          <p:sp>
            <p:nvSpPr>
              <p:cNvPr id="252" name=""/>
              <p:cNvSpPr/>
              <p:nvPr/>
            </p:nvSpPr>
            <p:spPr>
              <a:xfrm>
                <a:off x="3969000" y="5157720"/>
                <a:ext cx="56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7a77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007a77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7a77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058640" y="5497200"/>
                <a:ext cx="4320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"/>
          <p:cNvSpPr txBox="1"/>
          <p:nvPr/>
        </p:nvSpPr>
        <p:spPr>
          <a:xfrm>
            <a:off x="3492360" y="0"/>
            <a:ext cx="2160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小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55" name=""/>
          <p:cNvSpPr/>
          <p:nvPr/>
        </p:nvSpPr>
        <p:spPr>
          <a:xfrm>
            <a:off x="539640" y="1557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59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小数的意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20497" y="3837"/>
                </a:moveTo>
                <a:lnTo>
                  <a:pt x="23073" y="6448"/>
                </a:lnTo>
                <a:lnTo>
                  <a:pt x="23073" y="4707"/>
                </a:lnTo>
                <a:lnTo>
                  <a:pt x="24849" y="4707"/>
                </a:lnTo>
                <a:lnTo>
                  <a:pt x="24849" y="8224"/>
                </a:lnTo>
                <a:lnTo>
                  <a:pt x="27460" y="10800"/>
                </a:lnTo>
                <a:lnTo>
                  <a:pt x="25806" y="10800"/>
                </a:lnTo>
                <a:lnTo>
                  <a:pt x="25806" y="17989"/>
                </a:lnTo>
                <a:lnTo>
                  <a:pt x="15187" y="17989"/>
                </a:lnTo>
                <a:lnTo>
                  <a:pt x="15187" y="10800"/>
                </a:lnTo>
                <a:lnTo>
                  <a:pt x="13534" y="10800"/>
                </a:lnTo>
                <a:close/>
              </a:path>
              <a:path fill="darkenLess" w="40993" h="21600">
                <a:moveTo>
                  <a:pt x="23073" y="6448"/>
                </a:moveTo>
                <a:lnTo>
                  <a:pt x="23073" y="4707"/>
                </a:lnTo>
                <a:lnTo>
                  <a:pt x="24849" y="4707"/>
                </a:lnTo>
                <a:lnTo>
                  <a:pt x="24849" y="8224"/>
                </a:lnTo>
                <a:close/>
              </a:path>
              <a:path fill="darkenLess" w="40993" h="21600">
                <a:moveTo>
                  <a:pt x="19574" y="14299"/>
                </a:moveTo>
                <a:lnTo>
                  <a:pt x="21419" y="14299"/>
                </a:lnTo>
                <a:lnTo>
                  <a:pt x="21419" y="17989"/>
                </a:lnTo>
                <a:lnTo>
                  <a:pt x="25806" y="17989"/>
                </a:lnTo>
                <a:lnTo>
                  <a:pt x="25806" y="10800"/>
                </a:lnTo>
                <a:lnTo>
                  <a:pt x="15187" y="10800"/>
                </a:lnTo>
                <a:lnTo>
                  <a:pt x="15187" y="17989"/>
                </a:lnTo>
                <a:lnTo>
                  <a:pt x="19574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1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、数位顺序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9640" y="1701720"/>
            <a:ext cx="81378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9640" y="2421000"/>
            <a:ext cx="8137800" cy="14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9640" y="1701720"/>
            <a:ext cx="0" cy="44640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677440" y="1701720"/>
            <a:ext cx="0" cy="44640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87280" y="1701720"/>
            <a:ext cx="0" cy="44640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92360" y="2422440"/>
            <a:ext cx="0" cy="374328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97080" y="3070080"/>
            <a:ext cx="0" cy="30956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700360" y="3070080"/>
            <a:ext cx="1440" cy="30956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3070080"/>
            <a:ext cx="0" cy="30956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80000" y="2422440"/>
            <a:ext cx="1440" cy="374328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92360" y="3068640"/>
            <a:ext cx="4248000" cy="14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82920" y="3070080"/>
            <a:ext cx="1800" cy="30956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61080" y="3068640"/>
            <a:ext cx="0" cy="309708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35640" y="3070080"/>
            <a:ext cx="1440" cy="30956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940000" y="1701720"/>
            <a:ext cx="1800" cy="44640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588000" y="1700280"/>
            <a:ext cx="0" cy="44640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27920" y="2421000"/>
            <a:ext cx="0" cy="37447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96360" y="2421000"/>
            <a:ext cx="0" cy="374328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101080" y="2421000"/>
            <a:ext cx="1440" cy="37447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9640" y="4508640"/>
            <a:ext cx="5400720" cy="14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588000" y="4508640"/>
            <a:ext cx="2089440" cy="14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9640" y="6165720"/>
            <a:ext cx="81378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990760" y="1989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a77"/>
                </a:solidFill>
                <a:latin typeface="Arial"/>
              </a:rPr>
              <a:t>小数点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79280" y="184464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整 数 部 分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048800" y="184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小数部分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4520" y="2675520"/>
            <a:ext cx="5461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数    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14520" y="443232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计数单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8000" y="364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66120" y="525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85080" y="4076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101800" y="314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173080" y="5084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82920" y="2565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个   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35240" y="26020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万  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73760" y="260208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38880" y="3357720"/>
            <a:ext cx="546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个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9640" y="2421000"/>
            <a:ext cx="8137800" cy="14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773760" y="260208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38880" y="5099400"/>
            <a:ext cx="546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个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06800" y="3357720"/>
            <a:ext cx="546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十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62520" y="5066280"/>
            <a:ext cx="546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332240" y="3357720"/>
            <a:ext cx="546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百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87960" y="5066280"/>
            <a:ext cx="546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百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55880" y="3357720"/>
            <a:ext cx="546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千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11600" y="5066280"/>
            <a:ext cx="546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千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51160" y="3357720"/>
            <a:ext cx="546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万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06880" y="5066280"/>
            <a:ext cx="546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64840" y="3141720"/>
            <a:ext cx="9118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十万 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4869000"/>
            <a:ext cx="546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十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805760" y="3213000"/>
            <a:ext cx="911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百万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27240" y="4902120"/>
            <a:ext cx="54612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百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83760" y="3213000"/>
            <a:ext cx="911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千万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39120" y="4897440"/>
            <a:ext cx="9118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千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39040" y="2708280"/>
            <a:ext cx="546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十 分 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73280" y="4724280"/>
            <a:ext cx="9118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十分之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43760" y="2708280"/>
            <a:ext cx="546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百 分 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678000" y="4724280"/>
            <a:ext cx="9118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百分之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54960" y="2712960"/>
            <a:ext cx="54612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千 分 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162200" y="4724280"/>
            <a:ext cx="9118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千分之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1280" y="6235560"/>
            <a:ext cx="5905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相邻两个计数单位之间的进率都是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">
            <a:hlinkClick r:id="rId1" action="ppaction://hlinksldjump"/>
          </p:cNvPr>
          <p:cNvSpPr/>
          <p:nvPr/>
        </p:nvSpPr>
        <p:spPr>
          <a:xfrm>
            <a:off x="8101080" y="6291360"/>
            <a:ext cx="1042920" cy="566640"/>
          </a:xfrm>
          <a:custGeom>
            <a:avLst/>
            <a:gdLst>
              <a:gd name="textAreaLeft" fmla="*/ 36720 w 1042920"/>
              <a:gd name="textAreaRight" fmla="*/ 1006200 w 104292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39744" h="21600">
                <a:moveTo>
                  <a:pt x="0" y="0"/>
                </a:moveTo>
                <a:lnTo>
                  <a:pt x="39744" y="0"/>
                </a:lnTo>
                <a:lnTo>
                  <a:pt x="39744" y="21600"/>
                </a:lnTo>
                <a:lnTo>
                  <a:pt x="0" y="21600"/>
                </a:lnTo>
                <a:close/>
              </a:path>
              <a:path fill="lightenLess" w="39744" h="21600">
                <a:moveTo>
                  <a:pt x="0" y="0"/>
                </a:moveTo>
                <a:lnTo>
                  <a:pt x="39744" y="0"/>
                </a:lnTo>
                <a:lnTo>
                  <a:pt x="38344" y="1400"/>
                </a:lnTo>
                <a:lnTo>
                  <a:pt x="1400" y="1400"/>
                </a:lnTo>
                <a:close/>
              </a:path>
              <a:path fill="darken" w="39744" h="21600">
                <a:moveTo>
                  <a:pt x="39744" y="0"/>
                </a:moveTo>
                <a:lnTo>
                  <a:pt x="39744" y="21600"/>
                </a:lnTo>
                <a:lnTo>
                  <a:pt x="38344" y="20200"/>
                </a:lnTo>
                <a:lnTo>
                  <a:pt x="38344" y="1400"/>
                </a:lnTo>
                <a:close/>
              </a:path>
              <a:path fill="darkenLess" w="39744" h="21600">
                <a:moveTo>
                  <a:pt x="39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344" y="20200"/>
                </a:lnTo>
                <a:close/>
              </a:path>
              <a:path fill="lighten" w="39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744" h="21600">
                <a:moveTo>
                  <a:pt x="19872" y="3837"/>
                </a:moveTo>
                <a:lnTo>
                  <a:pt x="22448" y="6448"/>
                </a:lnTo>
                <a:lnTo>
                  <a:pt x="22448" y="4707"/>
                </a:lnTo>
                <a:lnTo>
                  <a:pt x="24224" y="4707"/>
                </a:lnTo>
                <a:lnTo>
                  <a:pt x="24224" y="8224"/>
                </a:lnTo>
                <a:lnTo>
                  <a:pt x="26835" y="10800"/>
                </a:lnTo>
                <a:lnTo>
                  <a:pt x="25181" y="10800"/>
                </a:lnTo>
                <a:lnTo>
                  <a:pt x="25181" y="17989"/>
                </a:lnTo>
                <a:lnTo>
                  <a:pt x="14563" y="17989"/>
                </a:lnTo>
                <a:lnTo>
                  <a:pt x="14563" y="10800"/>
                </a:lnTo>
                <a:lnTo>
                  <a:pt x="12909" y="10800"/>
                </a:lnTo>
                <a:close/>
              </a:path>
              <a:path fill="darkenLess" w="39744" h="21600">
                <a:moveTo>
                  <a:pt x="22448" y="6448"/>
                </a:moveTo>
                <a:lnTo>
                  <a:pt x="22448" y="4707"/>
                </a:lnTo>
                <a:lnTo>
                  <a:pt x="24224" y="4707"/>
                </a:lnTo>
                <a:lnTo>
                  <a:pt x="24224" y="8224"/>
                </a:lnTo>
                <a:close/>
              </a:path>
              <a:path fill="darkenLess" w="39744" h="21600">
                <a:moveTo>
                  <a:pt x="18949" y="14299"/>
                </a:moveTo>
                <a:lnTo>
                  <a:pt x="20795" y="14299"/>
                </a:lnTo>
                <a:lnTo>
                  <a:pt x="20795" y="17989"/>
                </a:lnTo>
                <a:lnTo>
                  <a:pt x="25181" y="17989"/>
                </a:lnTo>
                <a:lnTo>
                  <a:pt x="25181" y="10800"/>
                </a:lnTo>
                <a:lnTo>
                  <a:pt x="14563" y="10800"/>
                </a:lnTo>
                <a:lnTo>
                  <a:pt x="14563" y="17989"/>
                </a:lnTo>
                <a:lnTo>
                  <a:pt x="18949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66600"/>
            <a:ext cx="8640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小数点右边第一位是（     ）位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计数单位是（              ）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;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第二位是（     ）位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计数单位（        ）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buClr>
                <a:srgbClr val="007a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小数部分的最大计数单位是（         ）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没有最小的计数单位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小数部分有几个数位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就叫做几位小数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24360" y="1890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十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16360" y="83664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十分之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9640" y="14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百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9272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百分之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9640" y="3573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十分之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8101080" y="621972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7643" y="3837"/>
                </a:moveTo>
                <a:lnTo>
                  <a:pt x="20219" y="6448"/>
                </a:lnTo>
                <a:lnTo>
                  <a:pt x="20219" y="4707"/>
                </a:lnTo>
                <a:lnTo>
                  <a:pt x="21995" y="4707"/>
                </a:lnTo>
                <a:lnTo>
                  <a:pt x="21995" y="8224"/>
                </a:lnTo>
                <a:lnTo>
                  <a:pt x="24606" y="10800"/>
                </a:lnTo>
                <a:lnTo>
                  <a:pt x="22952" y="10800"/>
                </a:lnTo>
                <a:lnTo>
                  <a:pt x="22952" y="17989"/>
                </a:lnTo>
                <a:lnTo>
                  <a:pt x="12334" y="17989"/>
                </a:lnTo>
                <a:lnTo>
                  <a:pt x="12334" y="10800"/>
                </a:lnTo>
                <a:lnTo>
                  <a:pt x="10680" y="10800"/>
                </a:lnTo>
                <a:close/>
              </a:path>
              <a:path fill="darkenLess" w="35286" h="21600">
                <a:moveTo>
                  <a:pt x="20219" y="6448"/>
                </a:moveTo>
                <a:lnTo>
                  <a:pt x="20219" y="4707"/>
                </a:lnTo>
                <a:lnTo>
                  <a:pt x="21995" y="4707"/>
                </a:lnTo>
                <a:lnTo>
                  <a:pt x="21995" y="8224"/>
                </a:lnTo>
                <a:close/>
              </a:path>
              <a:path fill="darkenLess" w="35286" h="21600">
                <a:moveTo>
                  <a:pt x="16720" y="14299"/>
                </a:moveTo>
                <a:lnTo>
                  <a:pt x="18565" y="14299"/>
                </a:lnTo>
                <a:lnTo>
                  <a:pt x="18565" y="17989"/>
                </a:lnTo>
                <a:lnTo>
                  <a:pt x="22952" y="17989"/>
                </a:lnTo>
                <a:lnTo>
                  <a:pt x="22952" y="10800"/>
                </a:lnTo>
                <a:lnTo>
                  <a:pt x="12334" y="10800"/>
                </a:lnTo>
                <a:lnTo>
                  <a:pt x="12334" y="17989"/>
                </a:lnTo>
                <a:lnTo>
                  <a:pt x="16720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98280" y="981000"/>
            <a:ext cx="25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5900"/>
                </a:solidFill>
                <a:latin typeface="Arial"/>
                <a:ea typeface="黑体"/>
              </a:rPr>
              <a:t>3.</a:t>
            </a:r>
            <a:r>
              <a:rPr b="0" lang="zh-CN" sz="3200" spc="-1" strike="noStrike">
                <a:solidFill>
                  <a:srgbClr val="dc5900"/>
                </a:solidFill>
                <a:latin typeface="Arial"/>
                <a:ea typeface="黑体"/>
              </a:rPr>
              <a:t>小数的读法和写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95280" y="2133720"/>
            <a:ext cx="806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读小数时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数的整数部分按整数的读法来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数点读作“点”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数部分按照顺序读出每一个数位上的数字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写小数时</a:t>
            </a: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整数部分按照整数的写法来写</a:t>
            </a: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小数点写在个位右下角</a:t>
            </a: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小数部分顺次写出每一个数位上的数字</a:t>
            </a: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124360" y="3500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76320" y="3116160"/>
            <a:ext cx="27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5.469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读作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26520" y="31161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四十五点四六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">
            <a:hlinkClick r:id="rId1" action="ppaction://hlinksldjump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8144" y="3837"/>
                </a:moveTo>
                <a:lnTo>
                  <a:pt x="20720" y="6448"/>
                </a:lnTo>
                <a:lnTo>
                  <a:pt x="20720" y="4707"/>
                </a:lnTo>
                <a:lnTo>
                  <a:pt x="22496" y="4707"/>
                </a:lnTo>
                <a:lnTo>
                  <a:pt x="22496" y="8224"/>
                </a:lnTo>
                <a:lnTo>
                  <a:pt x="25107" y="10800"/>
                </a:lnTo>
                <a:lnTo>
                  <a:pt x="23453" y="10800"/>
                </a:lnTo>
                <a:lnTo>
                  <a:pt x="23453" y="17989"/>
                </a:lnTo>
                <a:lnTo>
                  <a:pt x="12835" y="17989"/>
                </a:lnTo>
                <a:lnTo>
                  <a:pt x="12835" y="10800"/>
                </a:lnTo>
                <a:lnTo>
                  <a:pt x="11181" y="10800"/>
                </a:lnTo>
                <a:close/>
              </a:path>
              <a:path fill="darkenLess" w="36288" h="21600">
                <a:moveTo>
                  <a:pt x="20720" y="6448"/>
                </a:moveTo>
                <a:lnTo>
                  <a:pt x="20720" y="4707"/>
                </a:lnTo>
                <a:lnTo>
                  <a:pt x="22496" y="4707"/>
                </a:lnTo>
                <a:lnTo>
                  <a:pt x="22496" y="8224"/>
                </a:lnTo>
                <a:close/>
              </a:path>
              <a:path fill="darkenLess" w="36288" h="21600">
                <a:moveTo>
                  <a:pt x="17221" y="14299"/>
                </a:moveTo>
                <a:lnTo>
                  <a:pt x="19067" y="14299"/>
                </a:lnTo>
                <a:lnTo>
                  <a:pt x="19067" y="17989"/>
                </a:lnTo>
                <a:lnTo>
                  <a:pt x="23453" y="17989"/>
                </a:lnTo>
                <a:lnTo>
                  <a:pt x="23453" y="10800"/>
                </a:lnTo>
                <a:lnTo>
                  <a:pt x="12835" y="10800"/>
                </a:lnTo>
                <a:lnTo>
                  <a:pt x="12835" y="17989"/>
                </a:lnTo>
                <a:lnTo>
                  <a:pt x="17221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6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9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609560" y="981000"/>
            <a:ext cx="245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5900"/>
                </a:solidFill>
                <a:latin typeface="Arial"/>
                <a:ea typeface="黑体"/>
              </a:rPr>
              <a:t>4.</a:t>
            </a:r>
            <a:r>
              <a:rPr b="0" lang="zh-CN" sz="4400" spc="-1" strike="noStrike">
                <a:solidFill>
                  <a:srgbClr val="dc5900"/>
                </a:solidFill>
                <a:latin typeface="Arial"/>
                <a:ea typeface="黑体"/>
              </a:rPr>
              <a:t>小数的性质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2219400"/>
            <a:ext cx="80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数的末尾添上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者去掉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,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数的大小不变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24360" y="3500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258920" y="333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835280" y="377676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50=3.5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332000" y="2781360"/>
            <a:ext cx="2160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20497" y="3837"/>
                </a:moveTo>
                <a:lnTo>
                  <a:pt x="23073" y="6448"/>
                </a:lnTo>
                <a:lnTo>
                  <a:pt x="23073" y="4707"/>
                </a:lnTo>
                <a:lnTo>
                  <a:pt x="24849" y="4707"/>
                </a:lnTo>
                <a:lnTo>
                  <a:pt x="24849" y="8224"/>
                </a:lnTo>
                <a:lnTo>
                  <a:pt x="27460" y="10800"/>
                </a:lnTo>
                <a:lnTo>
                  <a:pt x="25806" y="10800"/>
                </a:lnTo>
                <a:lnTo>
                  <a:pt x="25806" y="17989"/>
                </a:lnTo>
                <a:lnTo>
                  <a:pt x="15187" y="17989"/>
                </a:lnTo>
                <a:lnTo>
                  <a:pt x="15187" y="10800"/>
                </a:lnTo>
                <a:lnTo>
                  <a:pt x="13534" y="10800"/>
                </a:lnTo>
                <a:close/>
              </a:path>
              <a:path fill="darkenLess" w="40993" h="21600">
                <a:moveTo>
                  <a:pt x="23073" y="6448"/>
                </a:moveTo>
                <a:lnTo>
                  <a:pt x="23073" y="4707"/>
                </a:lnTo>
                <a:lnTo>
                  <a:pt x="24849" y="4707"/>
                </a:lnTo>
                <a:lnTo>
                  <a:pt x="24849" y="8224"/>
                </a:lnTo>
                <a:close/>
              </a:path>
              <a:path fill="darkenLess" w="40993" h="21600">
                <a:moveTo>
                  <a:pt x="19574" y="14299"/>
                </a:moveTo>
                <a:lnTo>
                  <a:pt x="21419" y="14299"/>
                </a:lnTo>
                <a:lnTo>
                  <a:pt x="21419" y="17989"/>
                </a:lnTo>
                <a:lnTo>
                  <a:pt x="25806" y="17989"/>
                </a:lnTo>
                <a:lnTo>
                  <a:pt x="25806" y="10800"/>
                </a:lnTo>
                <a:lnTo>
                  <a:pt x="15187" y="10800"/>
                </a:lnTo>
                <a:lnTo>
                  <a:pt x="15187" y="17989"/>
                </a:lnTo>
                <a:lnTo>
                  <a:pt x="19574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9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085040" y="699480"/>
            <a:ext cx="33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 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. 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数的大小比较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78960" y="3573720"/>
            <a:ext cx="714816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方法：整数部分大的就大，整数部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相同，看十分位，十分位大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就大，十分位相同，看百分位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百分位大的就大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98360" y="1699560"/>
            <a:ext cx="36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00.97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9.997 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41280" y="2491920"/>
            <a:ext cx="34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3.5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3.456 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8101080" y="6291360"/>
            <a:ext cx="1042920" cy="566640"/>
          </a:xfrm>
          <a:custGeom>
            <a:avLst/>
            <a:gdLst>
              <a:gd name="textAreaLeft" fmla="*/ 36720 w 1042920"/>
              <a:gd name="textAreaRight" fmla="*/ 1006200 w 104292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39744" h="21600">
                <a:moveTo>
                  <a:pt x="0" y="0"/>
                </a:moveTo>
                <a:lnTo>
                  <a:pt x="39744" y="0"/>
                </a:lnTo>
                <a:lnTo>
                  <a:pt x="39744" y="21600"/>
                </a:lnTo>
                <a:lnTo>
                  <a:pt x="0" y="21600"/>
                </a:lnTo>
                <a:close/>
              </a:path>
              <a:path fill="lightenLess" w="39744" h="21600">
                <a:moveTo>
                  <a:pt x="0" y="0"/>
                </a:moveTo>
                <a:lnTo>
                  <a:pt x="39744" y="0"/>
                </a:lnTo>
                <a:lnTo>
                  <a:pt x="38344" y="1400"/>
                </a:lnTo>
                <a:lnTo>
                  <a:pt x="1400" y="1400"/>
                </a:lnTo>
                <a:close/>
              </a:path>
              <a:path fill="darken" w="39744" h="21600">
                <a:moveTo>
                  <a:pt x="39744" y="0"/>
                </a:moveTo>
                <a:lnTo>
                  <a:pt x="39744" y="21600"/>
                </a:lnTo>
                <a:lnTo>
                  <a:pt x="38344" y="20200"/>
                </a:lnTo>
                <a:lnTo>
                  <a:pt x="38344" y="1400"/>
                </a:lnTo>
                <a:close/>
              </a:path>
              <a:path fill="darkenLess" w="39744" h="21600">
                <a:moveTo>
                  <a:pt x="39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344" y="20200"/>
                </a:lnTo>
                <a:close/>
              </a:path>
              <a:path fill="lighten" w="39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744" h="21600">
                <a:moveTo>
                  <a:pt x="19872" y="3837"/>
                </a:moveTo>
                <a:lnTo>
                  <a:pt x="22448" y="6448"/>
                </a:lnTo>
                <a:lnTo>
                  <a:pt x="22448" y="4707"/>
                </a:lnTo>
                <a:lnTo>
                  <a:pt x="24224" y="4707"/>
                </a:lnTo>
                <a:lnTo>
                  <a:pt x="24224" y="8224"/>
                </a:lnTo>
                <a:lnTo>
                  <a:pt x="26835" y="10800"/>
                </a:lnTo>
                <a:lnTo>
                  <a:pt x="25181" y="10800"/>
                </a:lnTo>
                <a:lnTo>
                  <a:pt x="25181" y="17989"/>
                </a:lnTo>
                <a:lnTo>
                  <a:pt x="14563" y="17989"/>
                </a:lnTo>
                <a:lnTo>
                  <a:pt x="14563" y="10800"/>
                </a:lnTo>
                <a:lnTo>
                  <a:pt x="12909" y="10800"/>
                </a:lnTo>
                <a:close/>
              </a:path>
              <a:path fill="darkenLess" w="39744" h="21600">
                <a:moveTo>
                  <a:pt x="22448" y="6448"/>
                </a:moveTo>
                <a:lnTo>
                  <a:pt x="22448" y="4707"/>
                </a:lnTo>
                <a:lnTo>
                  <a:pt x="24224" y="4707"/>
                </a:lnTo>
                <a:lnTo>
                  <a:pt x="24224" y="8224"/>
                </a:lnTo>
                <a:close/>
              </a:path>
              <a:path fill="darkenLess" w="39744" h="21600">
                <a:moveTo>
                  <a:pt x="18949" y="14299"/>
                </a:moveTo>
                <a:lnTo>
                  <a:pt x="20795" y="14299"/>
                </a:lnTo>
                <a:lnTo>
                  <a:pt x="20795" y="17989"/>
                </a:lnTo>
                <a:lnTo>
                  <a:pt x="25181" y="17989"/>
                </a:lnTo>
                <a:lnTo>
                  <a:pt x="25181" y="10800"/>
                </a:lnTo>
                <a:lnTo>
                  <a:pt x="14563" y="10800"/>
                </a:lnTo>
                <a:lnTo>
                  <a:pt x="14563" y="17989"/>
                </a:lnTo>
                <a:lnTo>
                  <a:pt x="18949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403280" y="126828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6.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小数点数位移动引起小数大小的变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403280" y="2421000"/>
            <a:ext cx="691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数点向右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左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移动一位、两位、三位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原来的数就扩大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缩小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1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倍、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倍、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倍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…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要把一个数扩大或缩小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倍、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倍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只需要移动小数点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数位不够时用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补足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6" name="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20497" y="3837"/>
                </a:moveTo>
                <a:lnTo>
                  <a:pt x="23073" y="6448"/>
                </a:lnTo>
                <a:lnTo>
                  <a:pt x="23073" y="4707"/>
                </a:lnTo>
                <a:lnTo>
                  <a:pt x="24849" y="4707"/>
                </a:lnTo>
                <a:lnTo>
                  <a:pt x="24849" y="8224"/>
                </a:lnTo>
                <a:lnTo>
                  <a:pt x="27460" y="10800"/>
                </a:lnTo>
                <a:lnTo>
                  <a:pt x="25806" y="10800"/>
                </a:lnTo>
                <a:lnTo>
                  <a:pt x="25806" y="17989"/>
                </a:lnTo>
                <a:lnTo>
                  <a:pt x="15187" y="17989"/>
                </a:lnTo>
                <a:lnTo>
                  <a:pt x="15187" y="10800"/>
                </a:lnTo>
                <a:lnTo>
                  <a:pt x="13534" y="10800"/>
                </a:lnTo>
                <a:close/>
              </a:path>
              <a:path fill="darkenLess" w="40993" h="21600">
                <a:moveTo>
                  <a:pt x="23073" y="6448"/>
                </a:moveTo>
                <a:lnTo>
                  <a:pt x="23073" y="4707"/>
                </a:lnTo>
                <a:lnTo>
                  <a:pt x="24849" y="4707"/>
                </a:lnTo>
                <a:lnTo>
                  <a:pt x="24849" y="8224"/>
                </a:lnTo>
                <a:close/>
              </a:path>
              <a:path fill="darkenLess" w="40993" h="21600">
                <a:moveTo>
                  <a:pt x="19574" y="14299"/>
                </a:moveTo>
                <a:lnTo>
                  <a:pt x="21419" y="14299"/>
                </a:lnTo>
                <a:lnTo>
                  <a:pt x="21419" y="17989"/>
                </a:lnTo>
                <a:lnTo>
                  <a:pt x="25806" y="17989"/>
                </a:lnTo>
                <a:lnTo>
                  <a:pt x="25806" y="10800"/>
                </a:lnTo>
                <a:lnTo>
                  <a:pt x="15187" y="10800"/>
                </a:lnTo>
                <a:lnTo>
                  <a:pt x="15187" y="17989"/>
                </a:lnTo>
                <a:lnTo>
                  <a:pt x="19574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3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8" dur="2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87280" y="10270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5900"/>
                </a:solidFill>
                <a:latin typeface="Arial"/>
                <a:ea typeface="黑体"/>
              </a:rPr>
              <a:t>7.</a:t>
            </a:r>
            <a:r>
              <a:rPr b="1" lang="zh-CN" sz="3600" spc="-1" strike="noStrike">
                <a:solidFill>
                  <a:srgbClr val="dc5900"/>
                </a:solidFill>
                <a:latin typeface="Arial"/>
                <a:ea typeface="黑体"/>
              </a:rPr>
              <a:t>小数的分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920" y="1844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26920" y="342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411280" y="25257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限小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484360" y="42022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无限小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03640" y="335772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无限循环小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003640" y="4653000"/>
            <a:ext cx="33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无限不循环小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050920" y="2852640"/>
            <a:ext cx="144720" cy="1656000"/>
          </a:xfrm>
          <a:custGeom>
            <a:avLst/>
            <a:gdLst>
              <a:gd name="textAreaLeft" fmla="*/ 92520 w 144720"/>
              <a:gd name="textAreaRight" fmla="*/ 145080 w 14472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356000" y="3645000"/>
            <a:ext cx="287280" cy="136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">
            <a:hlinkClick r:id="rId1" action="ppaction://hlinksldjump"/>
          </p:cNvPr>
          <p:cNvSpPr/>
          <p:nvPr/>
        </p:nvSpPr>
        <p:spPr>
          <a:xfrm>
            <a:off x="8101080" y="621972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7643" y="3837"/>
                </a:moveTo>
                <a:lnTo>
                  <a:pt x="20219" y="6448"/>
                </a:lnTo>
                <a:lnTo>
                  <a:pt x="20219" y="4707"/>
                </a:lnTo>
                <a:lnTo>
                  <a:pt x="21995" y="4707"/>
                </a:lnTo>
                <a:lnTo>
                  <a:pt x="21995" y="8224"/>
                </a:lnTo>
                <a:lnTo>
                  <a:pt x="24606" y="10800"/>
                </a:lnTo>
                <a:lnTo>
                  <a:pt x="22952" y="10800"/>
                </a:lnTo>
                <a:lnTo>
                  <a:pt x="22952" y="17989"/>
                </a:lnTo>
                <a:lnTo>
                  <a:pt x="12334" y="17989"/>
                </a:lnTo>
                <a:lnTo>
                  <a:pt x="12334" y="10800"/>
                </a:lnTo>
                <a:lnTo>
                  <a:pt x="10680" y="10800"/>
                </a:lnTo>
                <a:close/>
              </a:path>
              <a:path fill="darkenLess" w="35286" h="21600">
                <a:moveTo>
                  <a:pt x="20219" y="6448"/>
                </a:moveTo>
                <a:lnTo>
                  <a:pt x="20219" y="4707"/>
                </a:lnTo>
                <a:lnTo>
                  <a:pt x="21995" y="4707"/>
                </a:lnTo>
                <a:lnTo>
                  <a:pt x="21995" y="8224"/>
                </a:lnTo>
                <a:close/>
              </a:path>
              <a:path fill="darkenLess" w="35286" h="21600">
                <a:moveTo>
                  <a:pt x="16720" y="14299"/>
                </a:moveTo>
                <a:lnTo>
                  <a:pt x="18565" y="14299"/>
                </a:lnTo>
                <a:lnTo>
                  <a:pt x="18565" y="17989"/>
                </a:lnTo>
                <a:lnTo>
                  <a:pt x="22952" y="17989"/>
                </a:lnTo>
                <a:lnTo>
                  <a:pt x="22952" y="10800"/>
                </a:lnTo>
                <a:lnTo>
                  <a:pt x="12334" y="10800"/>
                </a:lnTo>
                <a:lnTo>
                  <a:pt x="12334" y="17989"/>
                </a:lnTo>
                <a:lnTo>
                  <a:pt x="16720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77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6" dur="770" fill="hold"/>
                                        <p:tgtEl>
                                          <p:spTgt spid="3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8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0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042920" y="4046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5900"/>
                </a:solidFill>
                <a:latin typeface="Arial"/>
                <a:ea typeface="黑体"/>
              </a:rPr>
              <a:t>8.</a:t>
            </a:r>
            <a:r>
              <a:rPr b="1" lang="zh-CN" sz="3600" spc="-1" strike="noStrike">
                <a:solidFill>
                  <a:srgbClr val="dc5900"/>
                </a:solidFill>
                <a:latin typeface="Arial"/>
                <a:ea typeface="黑体"/>
              </a:rPr>
              <a:t>循环小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14560" y="1341360"/>
            <a:ext cx="691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个小数的小数部分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某一位起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一个或几个数字依次不断重复出现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样的数叫做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循环小数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.5555……   7.23838…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依次不断重复出现的数字叫做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循环节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循环小数的简便记法（循环点打在循环节的首位和未位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.5555……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记作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0.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.23838……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记作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7.238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85840" y="486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59720" y="5373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8101080" y="6337440"/>
            <a:ext cx="1042920" cy="520560"/>
          </a:xfrm>
          <a:custGeom>
            <a:avLst/>
            <a:gdLst>
              <a:gd name="textAreaLeft" fmla="*/ 33480 w 1042920"/>
              <a:gd name="textAreaRight" fmla="*/ 1009440 w 1042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43260" h="21600">
                <a:moveTo>
                  <a:pt x="0" y="0"/>
                </a:moveTo>
                <a:lnTo>
                  <a:pt x="43260" y="0"/>
                </a:lnTo>
                <a:lnTo>
                  <a:pt x="43260" y="21600"/>
                </a:lnTo>
                <a:lnTo>
                  <a:pt x="0" y="21600"/>
                </a:lnTo>
                <a:close/>
              </a:path>
              <a:path fill="lightenLess" w="43260" h="21600">
                <a:moveTo>
                  <a:pt x="0" y="0"/>
                </a:moveTo>
                <a:lnTo>
                  <a:pt x="43260" y="0"/>
                </a:lnTo>
                <a:lnTo>
                  <a:pt x="41860" y="1400"/>
                </a:lnTo>
                <a:lnTo>
                  <a:pt x="1400" y="1400"/>
                </a:lnTo>
                <a:close/>
              </a:path>
              <a:path fill="darken" w="43260" h="21600">
                <a:moveTo>
                  <a:pt x="43260" y="0"/>
                </a:moveTo>
                <a:lnTo>
                  <a:pt x="43260" y="21600"/>
                </a:lnTo>
                <a:lnTo>
                  <a:pt x="41860" y="20200"/>
                </a:lnTo>
                <a:lnTo>
                  <a:pt x="41860" y="1400"/>
                </a:lnTo>
                <a:close/>
              </a:path>
              <a:path fill="darkenLess" w="43260" h="21600">
                <a:moveTo>
                  <a:pt x="43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60" y="20200"/>
                </a:lnTo>
                <a:close/>
              </a:path>
              <a:path fill="lighten" w="43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60" h="21600">
                <a:moveTo>
                  <a:pt x="21630" y="3837"/>
                </a:moveTo>
                <a:lnTo>
                  <a:pt x="24206" y="6448"/>
                </a:lnTo>
                <a:lnTo>
                  <a:pt x="24206" y="4707"/>
                </a:lnTo>
                <a:lnTo>
                  <a:pt x="25982" y="4707"/>
                </a:lnTo>
                <a:lnTo>
                  <a:pt x="25982" y="8224"/>
                </a:lnTo>
                <a:lnTo>
                  <a:pt x="28593" y="10800"/>
                </a:lnTo>
                <a:lnTo>
                  <a:pt x="26939" y="10800"/>
                </a:lnTo>
                <a:lnTo>
                  <a:pt x="26939" y="17989"/>
                </a:lnTo>
                <a:lnTo>
                  <a:pt x="16321" y="17989"/>
                </a:lnTo>
                <a:lnTo>
                  <a:pt x="16321" y="10800"/>
                </a:lnTo>
                <a:lnTo>
                  <a:pt x="14667" y="10800"/>
                </a:lnTo>
                <a:close/>
              </a:path>
              <a:path fill="darkenLess" w="43260" h="21600">
                <a:moveTo>
                  <a:pt x="24206" y="6448"/>
                </a:moveTo>
                <a:lnTo>
                  <a:pt x="24206" y="4707"/>
                </a:lnTo>
                <a:lnTo>
                  <a:pt x="25982" y="4707"/>
                </a:lnTo>
                <a:lnTo>
                  <a:pt x="25982" y="8224"/>
                </a:lnTo>
                <a:close/>
              </a:path>
              <a:path fill="darkenLess" w="43260" h="21600">
                <a:moveTo>
                  <a:pt x="20707" y="14299"/>
                </a:moveTo>
                <a:lnTo>
                  <a:pt x="22552" y="14299"/>
                </a:lnTo>
                <a:lnTo>
                  <a:pt x="22552" y="17989"/>
                </a:lnTo>
                <a:lnTo>
                  <a:pt x="26939" y="17989"/>
                </a:lnTo>
                <a:lnTo>
                  <a:pt x="26939" y="10800"/>
                </a:lnTo>
                <a:lnTo>
                  <a:pt x="16321" y="10800"/>
                </a:lnTo>
                <a:lnTo>
                  <a:pt x="16321" y="17989"/>
                </a:lnTo>
                <a:lnTo>
                  <a:pt x="20707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8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8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4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3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8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720"/>
                            </p:stCondLst>
                            <p:childTnLst>
                              <p:par>
                                <p:cTn id="8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643760" y="907920"/>
            <a:ext cx="205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  <a:ea typeface="黑体"/>
              </a:rPr>
              <a:t>9.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  <a:ea typeface="黑体"/>
              </a:rPr>
              <a:t>数的改写和省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26920" y="189072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个较大的多位数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为了读写方便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常常把它改写成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万”或“亿”作单位的数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有时还可以根据需要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省略这个数某一位后面的尾数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写成近似数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把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76450000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改写成用“万”作单位的数是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      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把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35800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改写成用“万”作单位的数是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      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35800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省略万位后面的尾数约为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       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把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4562800000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改写成用“亿”作单位的数后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保留两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小数是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       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70120" y="5440320"/>
            <a:ext cx="563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.62975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保留两位小数是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:(            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.62975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保留三位小数是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:(            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179400" y="333216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7645</a:t>
            </a: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11000" y="3716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23.58</a:t>
            </a: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505120" y="407664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24</a:t>
            </a: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833120" y="479736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345.63</a:t>
            </a: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亿</a:t>
            </a:r>
            <a:r>
              <a:rPr b="0" lang="zh-CN" sz="2400" spc="-1" strike="noStrike">
                <a:solidFill>
                  <a:srgbClr val="7979a5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495320" y="537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4.6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80920" y="5805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4.63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">
            <a:hlinkClick r:id="rId1" action="ppaction://hlinksldjump"/>
          </p:cNvPr>
          <p:cNvSpPr/>
          <p:nvPr/>
        </p:nvSpPr>
        <p:spPr>
          <a:xfrm>
            <a:off x="8101080" y="621972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7643" y="3837"/>
                </a:moveTo>
                <a:lnTo>
                  <a:pt x="20219" y="6448"/>
                </a:lnTo>
                <a:lnTo>
                  <a:pt x="20219" y="4707"/>
                </a:lnTo>
                <a:lnTo>
                  <a:pt x="21995" y="4707"/>
                </a:lnTo>
                <a:lnTo>
                  <a:pt x="21995" y="8224"/>
                </a:lnTo>
                <a:lnTo>
                  <a:pt x="24606" y="10800"/>
                </a:lnTo>
                <a:lnTo>
                  <a:pt x="22952" y="10800"/>
                </a:lnTo>
                <a:lnTo>
                  <a:pt x="22952" y="17989"/>
                </a:lnTo>
                <a:lnTo>
                  <a:pt x="12334" y="17989"/>
                </a:lnTo>
                <a:lnTo>
                  <a:pt x="12334" y="10800"/>
                </a:lnTo>
                <a:lnTo>
                  <a:pt x="10680" y="10800"/>
                </a:lnTo>
                <a:close/>
              </a:path>
              <a:path fill="darkenLess" w="35286" h="21600">
                <a:moveTo>
                  <a:pt x="20219" y="6448"/>
                </a:moveTo>
                <a:lnTo>
                  <a:pt x="20219" y="4707"/>
                </a:lnTo>
                <a:lnTo>
                  <a:pt x="21995" y="4707"/>
                </a:lnTo>
                <a:lnTo>
                  <a:pt x="21995" y="8224"/>
                </a:lnTo>
                <a:close/>
              </a:path>
              <a:path fill="darkenLess" w="35286" h="21600">
                <a:moveTo>
                  <a:pt x="16720" y="14299"/>
                </a:moveTo>
                <a:lnTo>
                  <a:pt x="18565" y="14299"/>
                </a:lnTo>
                <a:lnTo>
                  <a:pt x="18565" y="17989"/>
                </a:lnTo>
                <a:lnTo>
                  <a:pt x="22952" y="17989"/>
                </a:lnTo>
                <a:lnTo>
                  <a:pt x="22952" y="10800"/>
                </a:lnTo>
                <a:lnTo>
                  <a:pt x="12334" y="10800"/>
                </a:lnTo>
                <a:lnTo>
                  <a:pt x="12334" y="17989"/>
                </a:lnTo>
                <a:lnTo>
                  <a:pt x="16720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4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9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9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9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9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17288" t="42478" r="21716" b="39293"/>
          <a:stretch/>
        </p:blipFill>
        <p:spPr>
          <a:xfrm>
            <a:off x="395280" y="1197000"/>
            <a:ext cx="835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692280"/>
            <a:ext cx="90010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表示一个数是另一个数的百分之几的数，叫做百分数。百分数又叫百分率或百分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5157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百分数后面不能带单位名称。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9280" y="407664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百分数是一种特殊的分数。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95280" y="189000"/>
            <a:ext cx="2160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百分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76" name=""/>
          <p:cNvSpPr/>
          <p:nvPr/>
        </p:nvSpPr>
        <p:spPr>
          <a:xfrm>
            <a:off x="179280" y="112536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百分数的意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7" name="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20497" y="3837"/>
                </a:moveTo>
                <a:lnTo>
                  <a:pt x="23073" y="6448"/>
                </a:lnTo>
                <a:lnTo>
                  <a:pt x="23073" y="4707"/>
                </a:lnTo>
                <a:lnTo>
                  <a:pt x="24849" y="4707"/>
                </a:lnTo>
                <a:lnTo>
                  <a:pt x="24849" y="8224"/>
                </a:lnTo>
                <a:lnTo>
                  <a:pt x="27460" y="10800"/>
                </a:lnTo>
                <a:lnTo>
                  <a:pt x="25806" y="10800"/>
                </a:lnTo>
                <a:lnTo>
                  <a:pt x="25806" y="17989"/>
                </a:lnTo>
                <a:lnTo>
                  <a:pt x="15187" y="17989"/>
                </a:lnTo>
                <a:lnTo>
                  <a:pt x="15187" y="10800"/>
                </a:lnTo>
                <a:lnTo>
                  <a:pt x="13534" y="10800"/>
                </a:lnTo>
                <a:close/>
              </a:path>
              <a:path fill="darkenLess" w="40993" h="21600">
                <a:moveTo>
                  <a:pt x="23073" y="6448"/>
                </a:moveTo>
                <a:lnTo>
                  <a:pt x="23073" y="4707"/>
                </a:lnTo>
                <a:lnTo>
                  <a:pt x="24849" y="4707"/>
                </a:lnTo>
                <a:lnTo>
                  <a:pt x="24849" y="8224"/>
                </a:lnTo>
                <a:close/>
              </a:path>
              <a:path fill="darkenLess" w="40993" h="21600">
                <a:moveTo>
                  <a:pt x="19574" y="14299"/>
                </a:moveTo>
                <a:lnTo>
                  <a:pt x="21419" y="14299"/>
                </a:lnTo>
                <a:lnTo>
                  <a:pt x="21419" y="17989"/>
                </a:lnTo>
                <a:lnTo>
                  <a:pt x="25806" y="17989"/>
                </a:lnTo>
                <a:lnTo>
                  <a:pt x="25806" y="10800"/>
                </a:lnTo>
                <a:lnTo>
                  <a:pt x="15187" y="10800"/>
                </a:lnTo>
                <a:lnTo>
                  <a:pt x="15187" y="17989"/>
                </a:lnTo>
                <a:lnTo>
                  <a:pt x="19574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484360" y="105264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分数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</a:rPr>
              <a:t>、小数、百分数的互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71640" y="1916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63480" y="3002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25360" y="2492280"/>
            <a:ext cx="546480" cy="45972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小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68520" y="5554800"/>
            <a:ext cx="546480" cy="45972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分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06000" y="2492280"/>
            <a:ext cx="729360" cy="45972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百分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7640" y="2708280"/>
            <a:ext cx="3313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986200" y="2852640"/>
            <a:ext cx="324144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11280" y="2997360"/>
            <a:ext cx="1513080" cy="2519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2195280" y="3068640"/>
            <a:ext cx="1655640" cy="2735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148360" y="3068280"/>
            <a:ext cx="1366920" cy="2376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219280" y="3068640"/>
            <a:ext cx="1584360" cy="2735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707280" y="2014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0.25=(           )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32000" y="22701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小数点向右移动两位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添上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634560" y="314172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0.35%=(            )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19400" y="284652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去掉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%,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小数点向左移动两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7973000">
            <a:off x="4098600" y="390168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先化成小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再化成百分数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8103200">
            <a:off x="4890600" y="43992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先写成分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再约分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3552000">
            <a:off x="2090520" y="4087800"/>
            <a:ext cx="25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先用分数表示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再约分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3541800">
            <a:off x="2072520" y="46206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分子除以分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6938280" y="4241880"/>
            <a:ext cx="560160" cy="642600"/>
            <a:chOff x="6938280" y="4241880"/>
            <a:chExt cx="560160" cy="642600"/>
          </a:xfrm>
        </p:grpSpPr>
        <p:sp>
          <p:nvSpPr>
            <p:cNvPr id="399" name=""/>
            <p:cNvSpPr/>
            <p:nvPr/>
          </p:nvSpPr>
          <p:spPr>
            <a:xfrm>
              <a:off x="6938280" y="4241880"/>
              <a:ext cx="56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27920" y="4581360"/>
              <a:ext cx="43164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7473600" y="4386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279120" y="43862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40%=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742520" y="4292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7a77"/>
                </a:solidFill>
                <a:uFillTx/>
                <a:latin typeface="Arial"/>
              </a:rPr>
              <a:t>2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53080" y="36450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7a77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050360" y="3789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Arial"/>
              </a:rPr>
              <a:t>≈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  <a:ea typeface="Arial"/>
              </a:rPr>
              <a:t>0.167=16.7%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026000" y="424008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7a77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261080" y="436572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=0.25=25%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636720" y="429264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1.2=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02880" y="20541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555440" y="31417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0.0035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140720" y="4149720"/>
            <a:ext cx="1100160" cy="642600"/>
            <a:chOff x="4140720" y="4149720"/>
            <a:chExt cx="1100160" cy="642600"/>
          </a:xfrm>
        </p:grpSpPr>
        <p:grpSp>
          <p:nvGrpSpPr>
            <p:cNvPr id="412" name=""/>
            <p:cNvGrpSpPr/>
            <p:nvPr/>
          </p:nvGrpSpPr>
          <p:grpSpPr>
            <a:xfrm>
              <a:off x="4285440" y="4149720"/>
              <a:ext cx="955440" cy="642600"/>
              <a:chOff x="4285440" y="4149720"/>
              <a:chExt cx="955440" cy="642600"/>
            </a:xfrm>
          </p:grpSpPr>
          <p:sp>
            <p:nvSpPr>
              <p:cNvPr id="413" name=""/>
              <p:cNvSpPr/>
              <p:nvPr/>
            </p:nvSpPr>
            <p:spPr>
              <a:xfrm>
                <a:off x="4285440" y="4149720"/>
                <a:ext cx="563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 u="sng">
                    <a:solidFill>
                      <a:srgbClr val="007a77"/>
                    </a:solidFill>
                    <a:uFillTx/>
                    <a:latin typeface="Arial"/>
                  </a:rPr>
                  <a:t> </a:t>
                </a:r>
                <a:r>
                  <a:rPr b="1" lang="en-US" sz="1800" spc="-1" strike="noStrike" u="sng">
                    <a:solidFill>
                      <a:srgbClr val="007a77"/>
                    </a:solidFill>
                    <a:uFillTx/>
                    <a:latin typeface="Arial"/>
                  </a:rPr>
                  <a:t>2  </a:t>
                </a:r>
                <a:r>
                  <a:rPr b="0" lang="en-US" sz="1800" spc="-1" strike="noStrike" u="sng">
                    <a:solidFill>
                      <a:srgbClr val="007a77"/>
                    </a:solidFill>
                    <a:uFillTx/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7a77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933800" y="4149720"/>
                <a:ext cx="307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7a77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7a77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4140720" y="4294080"/>
              <a:ext cx="95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      =1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16" name=""/>
          <p:cNvSpPr txBox="1"/>
          <p:nvPr/>
        </p:nvSpPr>
        <p:spPr>
          <a:xfrm>
            <a:off x="539640" y="333360"/>
            <a:ext cx="2160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互化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17" name="">
            <a:hlinkClick r:id="rId1" action="ppaction://hlinksldjump"/>
          </p:cNvPr>
          <p:cNvSpPr/>
          <p:nvPr/>
        </p:nvSpPr>
        <p:spPr>
          <a:xfrm>
            <a:off x="8101080" y="621972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7643" y="3837"/>
                </a:moveTo>
                <a:lnTo>
                  <a:pt x="20219" y="6448"/>
                </a:lnTo>
                <a:lnTo>
                  <a:pt x="20219" y="4707"/>
                </a:lnTo>
                <a:lnTo>
                  <a:pt x="21995" y="4707"/>
                </a:lnTo>
                <a:lnTo>
                  <a:pt x="21995" y="8224"/>
                </a:lnTo>
                <a:lnTo>
                  <a:pt x="24606" y="10800"/>
                </a:lnTo>
                <a:lnTo>
                  <a:pt x="22952" y="10800"/>
                </a:lnTo>
                <a:lnTo>
                  <a:pt x="22952" y="17989"/>
                </a:lnTo>
                <a:lnTo>
                  <a:pt x="12334" y="17989"/>
                </a:lnTo>
                <a:lnTo>
                  <a:pt x="12334" y="10800"/>
                </a:lnTo>
                <a:lnTo>
                  <a:pt x="10680" y="10800"/>
                </a:lnTo>
                <a:close/>
              </a:path>
              <a:path fill="darkenLess" w="35286" h="21600">
                <a:moveTo>
                  <a:pt x="20219" y="6448"/>
                </a:moveTo>
                <a:lnTo>
                  <a:pt x="20219" y="4707"/>
                </a:lnTo>
                <a:lnTo>
                  <a:pt x="21995" y="4707"/>
                </a:lnTo>
                <a:lnTo>
                  <a:pt x="21995" y="8224"/>
                </a:lnTo>
                <a:close/>
              </a:path>
              <a:path fill="darkenLess" w="35286" h="21600">
                <a:moveTo>
                  <a:pt x="16720" y="14299"/>
                </a:moveTo>
                <a:lnTo>
                  <a:pt x="18565" y="14299"/>
                </a:lnTo>
                <a:lnTo>
                  <a:pt x="18565" y="17989"/>
                </a:lnTo>
                <a:lnTo>
                  <a:pt x="22952" y="17989"/>
                </a:lnTo>
                <a:lnTo>
                  <a:pt x="22952" y="10800"/>
                </a:lnTo>
                <a:lnTo>
                  <a:pt x="12334" y="10800"/>
                </a:lnTo>
                <a:lnTo>
                  <a:pt x="12334" y="17989"/>
                </a:lnTo>
                <a:lnTo>
                  <a:pt x="16720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18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23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1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6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10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13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1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1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3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0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7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75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8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9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60280" y="318960"/>
            <a:ext cx="8291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小数、百分数互化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0.23=        1.5=            0.7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0%=        95%=          102%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9" name="">
            <a:hlinkClick r:id="rId1" action="ppaction://hlinksldjump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8144" y="3837"/>
                </a:moveTo>
                <a:lnTo>
                  <a:pt x="20720" y="6448"/>
                </a:lnTo>
                <a:lnTo>
                  <a:pt x="20720" y="4707"/>
                </a:lnTo>
                <a:lnTo>
                  <a:pt x="22496" y="4707"/>
                </a:lnTo>
                <a:lnTo>
                  <a:pt x="22496" y="8224"/>
                </a:lnTo>
                <a:lnTo>
                  <a:pt x="25107" y="10800"/>
                </a:lnTo>
                <a:lnTo>
                  <a:pt x="23453" y="10800"/>
                </a:lnTo>
                <a:lnTo>
                  <a:pt x="23453" y="17989"/>
                </a:lnTo>
                <a:lnTo>
                  <a:pt x="12835" y="17989"/>
                </a:lnTo>
                <a:lnTo>
                  <a:pt x="12835" y="10800"/>
                </a:lnTo>
                <a:lnTo>
                  <a:pt x="11181" y="10800"/>
                </a:lnTo>
                <a:close/>
              </a:path>
              <a:path fill="darkenLess" w="36288" h="21600">
                <a:moveTo>
                  <a:pt x="20720" y="6448"/>
                </a:moveTo>
                <a:lnTo>
                  <a:pt x="20720" y="4707"/>
                </a:lnTo>
                <a:lnTo>
                  <a:pt x="22496" y="4707"/>
                </a:lnTo>
                <a:lnTo>
                  <a:pt x="22496" y="8224"/>
                </a:lnTo>
                <a:close/>
              </a:path>
              <a:path fill="darkenLess" w="36288" h="21600">
                <a:moveTo>
                  <a:pt x="17221" y="14299"/>
                </a:moveTo>
                <a:lnTo>
                  <a:pt x="19067" y="14299"/>
                </a:lnTo>
                <a:lnTo>
                  <a:pt x="19067" y="17989"/>
                </a:lnTo>
                <a:lnTo>
                  <a:pt x="23453" y="17989"/>
                </a:lnTo>
                <a:lnTo>
                  <a:pt x="23453" y="10800"/>
                </a:lnTo>
                <a:lnTo>
                  <a:pt x="12835" y="10800"/>
                </a:lnTo>
                <a:lnTo>
                  <a:pt x="12835" y="17989"/>
                </a:lnTo>
                <a:lnTo>
                  <a:pt x="17221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6348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03920" y="549360"/>
            <a:ext cx="795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百分数和分数的互化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29%=         25%=       110%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/5=           3/4=          9/10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8101080" y="6364440"/>
            <a:ext cx="1042920" cy="493560"/>
          </a:xfrm>
          <a:custGeom>
            <a:avLst/>
            <a:gdLst>
              <a:gd name="textAreaLeft" fmla="*/ 31680 w 1042920"/>
              <a:gd name="textAreaRight" fmla="*/ 1011240 w 104292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45624" h="21600">
                <a:moveTo>
                  <a:pt x="0" y="0"/>
                </a:moveTo>
                <a:lnTo>
                  <a:pt x="45624" y="0"/>
                </a:lnTo>
                <a:lnTo>
                  <a:pt x="45624" y="21600"/>
                </a:lnTo>
                <a:lnTo>
                  <a:pt x="0" y="21600"/>
                </a:lnTo>
                <a:close/>
              </a:path>
              <a:path fill="lightenLess" w="45624" h="21600">
                <a:moveTo>
                  <a:pt x="0" y="0"/>
                </a:moveTo>
                <a:lnTo>
                  <a:pt x="45624" y="0"/>
                </a:lnTo>
                <a:lnTo>
                  <a:pt x="44224" y="1400"/>
                </a:lnTo>
                <a:lnTo>
                  <a:pt x="1400" y="1400"/>
                </a:lnTo>
                <a:close/>
              </a:path>
              <a:path fill="darken" w="45624" h="21600">
                <a:moveTo>
                  <a:pt x="45624" y="0"/>
                </a:moveTo>
                <a:lnTo>
                  <a:pt x="45624" y="21600"/>
                </a:lnTo>
                <a:lnTo>
                  <a:pt x="44224" y="20200"/>
                </a:lnTo>
                <a:lnTo>
                  <a:pt x="44224" y="1400"/>
                </a:lnTo>
                <a:close/>
              </a:path>
              <a:path fill="darkenLess" w="45624" h="21600">
                <a:moveTo>
                  <a:pt x="45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24" y="20200"/>
                </a:lnTo>
                <a:close/>
              </a:path>
              <a:path fill="lighten" w="45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24" h="21600">
                <a:moveTo>
                  <a:pt x="22812" y="3837"/>
                </a:moveTo>
                <a:lnTo>
                  <a:pt x="25389" y="6448"/>
                </a:lnTo>
                <a:lnTo>
                  <a:pt x="25389" y="4707"/>
                </a:lnTo>
                <a:lnTo>
                  <a:pt x="27164" y="4707"/>
                </a:lnTo>
                <a:lnTo>
                  <a:pt x="27164" y="8224"/>
                </a:lnTo>
                <a:lnTo>
                  <a:pt x="29775" y="10800"/>
                </a:lnTo>
                <a:lnTo>
                  <a:pt x="28122" y="10800"/>
                </a:lnTo>
                <a:lnTo>
                  <a:pt x="28122" y="17989"/>
                </a:lnTo>
                <a:lnTo>
                  <a:pt x="17503" y="17989"/>
                </a:lnTo>
                <a:lnTo>
                  <a:pt x="17503" y="10800"/>
                </a:lnTo>
                <a:lnTo>
                  <a:pt x="15849" y="10800"/>
                </a:lnTo>
                <a:close/>
              </a:path>
              <a:path fill="darkenLess" w="45624" h="21600">
                <a:moveTo>
                  <a:pt x="25389" y="6448"/>
                </a:moveTo>
                <a:lnTo>
                  <a:pt x="25389" y="4707"/>
                </a:lnTo>
                <a:lnTo>
                  <a:pt x="27164" y="4707"/>
                </a:lnTo>
                <a:lnTo>
                  <a:pt x="27164" y="8224"/>
                </a:lnTo>
                <a:close/>
              </a:path>
              <a:path fill="darkenLess" w="45624" h="21600">
                <a:moveTo>
                  <a:pt x="21890" y="14299"/>
                </a:moveTo>
                <a:lnTo>
                  <a:pt x="23735" y="14299"/>
                </a:lnTo>
                <a:lnTo>
                  <a:pt x="23735" y="17989"/>
                </a:lnTo>
                <a:lnTo>
                  <a:pt x="28122" y="17989"/>
                </a:lnTo>
                <a:lnTo>
                  <a:pt x="28122" y="10800"/>
                </a:lnTo>
                <a:lnTo>
                  <a:pt x="17503" y="10800"/>
                </a:lnTo>
                <a:lnTo>
                  <a:pt x="17503" y="17989"/>
                </a:lnTo>
                <a:lnTo>
                  <a:pt x="21890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482400" y="620640"/>
            <a:ext cx="8017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小数、分数的互化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0.3=         0.25=       1.4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4 / 5=       1 / 2 =       7 / 100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4" name="">
            <a:hlinkClick r:id="rId1" action="ppaction://hlinksldjump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8144" y="3837"/>
                </a:moveTo>
                <a:lnTo>
                  <a:pt x="20720" y="6448"/>
                </a:lnTo>
                <a:lnTo>
                  <a:pt x="20720" y="4707"/>
                </a:lnTo>
                <a:lnTo>
                  <a:pt x="22496" y="4707"/>
                </a:lnTo>
                <a:lnTo>
                  <a:pt x="22496" y="8224"/>
                </a:lnTo>
                <a:lnTo>
                  <a:pt x="25107" y="10800"/>
                </a:lnTo>
                <a:lnTo>
                  <a:pt x="23453" y="10800"/>
                </a:lnTo>
                <a:lnTo>
                  <a:pt x="23453" y="17989"/>
                </a:lnTo>
                <a:lnTo>
                  <a:pt x="12835" y="17989"/>
                </a:lnTo>
                <a:lnTo>
                  <a:pt x="12835" y="10800"/>
                </a:lnTo>
                <a:lnTo>
                  <a:pt x="11181" y="10800"/>
                </a:lnTo>
                <a:close/>
              </a:path>
              <a:path fill="darkenLess" w="36288" h="21600">
                <a:moveTo>
                  <a:pt x="20720" y="6448"/>
                </a:moveTo>
                <a:lnTo>
                  <a:pt x="20720" y="4707"/>
                </a:lnTo>
                <a:lnTo>
                  <a:pt x="22496" y="4707"/>
                </a:lnTo>
                <a:lnTo>
                  <a:pt x="22496" y="8224"/>
                </a:lnTo>
                <a:close/>
              </a:path>
              <a:path fill="darkenLess" w="36288" h="21600">
                <a:moveTo>
                  <a:pt x="17221" y="14299"/>
                </a:moveTo>
                <a:lnTo>
                  <a:pt x="19067" y="14299"/>
                </a:lnTo>
                <a:lnTo>
                  <a:pt x="19067" y="17989"/>
                </a:lnTo>
                <a:lnTo>
                  <a:pt x="23453" y="17989"/>
                </a:lnTo>
                <a:lnTo>
                  <a:pt x="23453" y="10800"/>
                </a:lnTo>
                <a:lnTo>
                  <a:pt x="12835" y="10800"/>
                </a:lnTo>
                <a:lnTo>
                  <a:pt x="12835" y="17989"/>
                </a:lnTo>
                <a:lnTo>
                  <a:pt x="17221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1258920" y="105264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两个数相除又叫做这两个数的比。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“：”是比号，比号前面的项叫比的前项，比号后面的项叫比的后项，前项除以后项所得的商叫比值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4360" y="2276640"/>
            <a:ext cx="785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en-US" sz="6600" spc="-1" strike="noStrike">
                <a:solidFill>
                  <a:srgbClr val="007a77"/>
                </a:solidFill>
                <a:latin typeface="宋体"/>
              </a:rPr>
              <a:t>a÷b=a : b</a:t>
            </a:r>
            <a:r>
              <a:rPr b="1" lang="zh-CN" sz="66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1" lang="en-US" sz="6600" spc="-1" strike="noStrike">
                <a:solidFill>
                  <a:srgbClr val="007a77"/>
                </a:solidFill>
                <a:latin typeface="宋体"/>
              </a:rPr>
              <a:t>b≠0)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   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348000" y="3213000"/>
            <a:ext cx="0" cy="28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140360" y="3213000"/>
            <a:ext cx="0" cy="28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03640" y="314172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987640" y="3573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前项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781440" y="3573360"/>
            <a:ext cx="7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比  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716360" y="3573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后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16360" y="4437000"/>
            <a:ext cx="56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宋体"/>
              </a:rPr>
              <a:t>8:4=8÷4= 2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（比值）</a:t>
            </a:r>
            <a:r>
              <a:rPr b="1" lang="zh-CN" sz="5400" spc="-1" strike="noStrike">
                <a:solidFill>
                  <a:srgbClr val="007a77"/>
                </a:solidFill>
                <a:latin typeface="宋体"/>
              </a:rPr>
              <a:t>      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539640" y="333360"/>
            <a:ext cx="115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比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5" name="">
            <a:hlinkClick r:id="rId1" action="ppaction://hlinksldjump"/>
          </p:cNvPr>
          <p:cNvSpPr/>
          <p:nvPr/>
        </p:nvSpPr>
        <p:spPr>
          <a:xfrm>
            <a:off x="8101080" y="621972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7643" y="3837"/>
                </a:moveTo>
                <a:lnTo>
                  <a:pt x="20219" y="6448"/>
                </a:lnTo>
                <a:lnTo>
                  <a:pt x="20219" y="4707"/>
                </a:lnTo>
                <a:lnTo>
                  <a:pt x="21995" y="4707"/>
                </a:lnTo>
                <a:lnTo>
                  <a:pt x="21995" y="8224"/>
                </a:lnTo>
                <a:lnTo>
                  <a:pt x="24606" y="10800"/>
                </a:lnTo>
                <a:lnTo>
                  <a:pt x="22952" y="10800"/>
                </a:lnTo>
                <a:lnTo>
                  <a:pt x="22952" y="17989"/>
                </a:lnTo>
                <a:lnTo>
                  <a:pt x="12334" y="17989"/>
                </a:lnTo>
                <a:lnTo>
                  <a:pt x="12334" y="10800"/>
                </a:lnTo>
                <a:lnTo>
                  <a:pt x="10680" y="10800"/>
                </a:lnTo>
                <a:close/>
              </a:path>
              <a:path fill="darkenLess" w="35286" h="21600">
                <a:moveTo>
                  <a:pt x="20219" y="6448"/>
                </a:moveTo>
                <a:lnTo>
                  <a:pt x="20219" y="4707"/>
                </a:lnTo>
                <a:lnTo>
                  <a:pt x="21995" y="4707"/>
                </a:lnTo>
                <a:lnTo>
                  <a:pt x="21995" y="8224"/>
                </a:lnTo>
                <a:close/>
              </a:path>
              <a:path fill="darkenLess" w="35286" h="21600">
                <a:moveTo>
                  <a:pt x="16720" y="14299"/>
                </a:moveTo>
                <a:lnTo>
                  <a:pt x="18565" y="14299"/>
                </a:lnTo>
                <a:lnTo>
                  <a:pt x="18565" y="17989"/>
                </a:lnTo>
                <a:lnTo>
                  <a:pt x="22952" y="17989"/>
                </a:lnTo>
                <a:lnTo>
                  <a:pt x="22952" y="10800"/>
                </a:lnTo>
                <a:lnTo>
                  <a:pt x="12334" y="10800"/>
                </a:lnTo>
                <a:lnTo>
                  <a:pt x="12334" y="17989"/>
                </a:lnTo>
                <a:lnTo>
                  <a:pt x="16720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2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3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4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9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4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rcRect l="20749" t="81060" r="12942" b="13863"/>
          <a:stretch/>
        </p:blipFill>
        <p:spPr>
          <a:xfrm>
            <a:off x="395280" y="1773360"/>
            <a:ext cx="8136000" cy="13683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95280" y="90792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化简比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">
            <a:hlinkClick r:id="rId2" action="ppaction://hlinksldjump"/>
          </p:cNvPr>
          <p:cNvSpPr/>
          <p:nvPr/>
        </p:nvSpPr>
        <p:spPr>
          <a:xfrm>
            <a:off x="8101080" y="621972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7643" y="3837"/>
                </a:moveTo>
                <a:lnTo>
                  <a:pt x="20219" y="6448"/>
                </a:lnTo>
                <a:lnTo>
                  <a:pt x="20219" y="4707"/>
                </a:lnTo>
                <a:lnTo>
                  <a:pt x="21995" y="4707"/>
                </a:lnTo>
                <a:lnTo>
                  <a:pt x="21995" y="8224"/>
                </a:lnTo>
                <a:lnTo>
                  <a:pt x="24606" y="10800"/>
                </a:lnTo>
                <a:lnTo>
                  <a:pt x="22952" y="10800"/>
                </a:lnTo>
                <a:lnTo>
                  <a:pt x="22952" y="17989"/>
                </a:lnTo>
                <a:lnTo>
                  <a:pt x="12334" y="17989"/>
                </a:lnTo>
                <a:lnTo>
                  <a:pt x="12334" y="10800"/>
                </a:lnTo>
                <a:lnTo>
                  <a:pt x="10680" y="10800"/>
                </a:lnTo>
                <a:close/>
              </a:path>
              <a:path fill="darkenLess" w="35286" h="21600">
                <a:moveTo>
                  <a:pt x="20219" y="6448"/>
                </a:moveTo>
                <a:lnTo>
                  <a:pt x="20219" y="4707"/>
                </a:lnTo>
                <a:lnTo>
                  <a:pt x="21995" y="4707"/>
                </a:lnTo>
                <a:lnTo>
                  <a:pt x="21995" y="8224"/>
                </a:lnTo>
                <a:close/>
              </a:path>
              <a:path fill="darkenLess" w="35286" h="21600">
                <a:moveTo>
                  <a:pt x="16720" y="14299"/>
                </a:moveTo>
                <a:lnTo>
                  <a:pt x="18565" y="14299"/>
                </a:lnTo>
                <a:lnTo>
                  <a:pt x="18565" y="17989"/>
                </a:lnTo>
                <a:lnTo>
                  <a:pt x="22952" y="17989"/>
                </a:lnTo>
                <a:lnTo>
                  <a:pt x="22952" y="10800"/>
                </a:lnTo>
                <a:lnTo>
                  <a:pt x="12334" y="10800"/>
                </a:lnTo>
                <a:lnTo>
                  <a:pt x="12334" y="17989"/>
                </a:lnTo>
                <a:lnTo>
                  <a:pt x="16720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395280" y="1125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求比值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rcRect l="20987" t="86152" r="12348" b="9509"/>
          <a:stretch/>
        </p:blipFill>
        <p:spPr>
          <a:xfrm>
            <a:off x="0" y="2349360"/>
            <a:ext cx="9144000" cy="1366920"/>
          </a:xfrm>
          <a:prstGeom prst="rect">
            <a:avLst/>
          </a:prstGeom>
          <a:ln w="0">
            <a:noFill/>
          </a:ln>
        </p:spPr>
      </p:pic>
      <p:sp>
        <p:nvSpPr>
          <p:cNvPr id="441" name="">
            <a:hlinkClick r:id="rId2" action="ppaction://hlinksldjump"/>
          </p:cNvPr>
          <p:cNvSpPr/>
          <p:nvPr/>
        </p:nvSpPr>
        <p:spPr>
          <a:xfrm>
            <a:off x="8101080" y="6246720"/>
            <a:ext cx="1042920" cy="611280"/>
          </a:xfrm>
          <a:custGeom>
            <a:avLst/>
            <a:gdLst>
              <a:gd name="textAreaLeft" fmla="*/ 39600 w 1042920"/>
              <a:gd name="textAreaRight" fmla="*/ 1003320 w 1042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36843" h="21600">
                <a:moveTo>
                  <a:pt x="0" y="0"/>
                </a:moveTo>
                <a:lnTo>
                  <a:pt x="36843" y="0"/>
                </a:lnTo>
                <a:lnTo>
                  <a:pt x="36843" y="21600"/>
                </a:lnTo>
                <a:lnTo>
                  <a:pt x="0" y="21600"/>
                </a:lnTo>
                <a:close/>
              </a:path>
              <a:path fill="lightenLess" w="36843" h="21600">
                <a:moveTo>
                  <a:pt x="0" y="0"/>
                </a:moveTo>
                <a:lnTo>
                  <a:pt x="36843" y="0"/>
                </a:lnTo>
                <a:lnTo>
                  <a:pt x="35443" y="1400"/>
                </a:lnTo>
                <a:lnTo>
                  <a:pt x="1400" y="1400"/>
                </a:lnTo>
                <a:close/>
              </a:path>
              <a:path fill="darken" w="36843" h="21600">
                <a:moveTo>
                  <a:pt x="36843" y="0"/>
                </a:moveTo>
                <a:lnTo>
                  <a:pt x="36843" y="21600"/>
                </a:lnTo>
                <a:lnTo>
                  <a:pt x="35443" y="20200"/>
                </a:lnTo>
                <a:lnTo>
                  <a:pt x="35443" y="1400"/>
                </a:lnTo>
                <a:close/>
              </a:path>
              <a:path fill="darkenLess" w="36843" h="21600">
                <a:moveTo>
                  <a:pt x="36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3" y="20200"/>
                </a:lnTo>
                <a:close/>
              </a:path>
              <a:path fill="lighten" w="36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3" h="21600">
                <a:moveTo>
                  <a:pt x="18422" y="3837"/>
                </a:moveTo>
                <a:lnTo>
                  <a:pt x="20998" y="6448"/>
                </a:lnTo>
                <a:lnTo>
                  <a:pt x="20998" y="4707"/>
                </a:lnTo>
                <a:lnTo>
                  <a:pt x="22774" y="4707"/>
                </a:lnTo>
                <a:lnTo>
                  <a:pt x="22774" y="8224"/>
                </a:lnTo>
                <a:lnTo>
                  <a:pt x="25385" y="10800"/>
                </a:lnTo>
                <a:lnTo>
                  <a:pt x="23731" y="10800"/>
                </a:lnTo>
                <a:lnTo>
                  <a:pt x="23731" y="17989"/>
                </a:lnTo>
                <a:lnTo>
                  <a:pt x="13112" y="17989"/>
                </a:lnTo>
                <a:lnTo>
                  <a:pt x="13112" y="10800"/>
                </a:lnTo>
                <a:lnTo>
                  <a:pt x="11459" y="10800"/>
                </a:lnTo>
                <a:close/>
              </a:path>
              <a:path fill="darkenLess" w="36843" h="21600">
                <a:moveTo>
                  <a:pt x="20998" y="6448"/>
                </a:moveTo>
                <a:lnTo>
                  <a:pt x="20998" y="4707"/>
                </a:lnTo>
                <a:lnTo>
                  <a:pt x="22774" y="4707"/>
                </a:lnTo>
                <a:lnTo>
                  <a:pt x="22774" y="8224"/>
                </a:lnTo>
                <a:close/>
              </a:path>
              <a:path fill="darkenLess" w="36843" h="21600">
                <a:moveTo>
                  <a:pt x="17499" y="14299"/>
                </a:moveTo>
                <a:lnTo>
                  <a:pt x="19344" y="14299"/>
                </a:lnTo>
                <a:lnTo>
                  <a:pt x="19344" y="17989"/>
                </a:lnTo>
                <a:lnTo>
                  <a:pt x="23731" y="17989"/>
                </a:lnTo>
                <a:lnTo>
                  <a:pt x="23731" y="10800"/>
                </a:lnTo>
                <a:lnTo>
                  <a:pt x="13112" y="10800"/>
                </a:lnTo>
                <a:lnTo>
                  <a:pt x="13112" y="17989"/>
                </a:lnTo>
                <a:lnTo>
                  <a:pt x="17499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2124000" y="98100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数、比、除法之间的关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692360" y="1484280"/>
            <a:ext cx="5472000" cy="1276560"/>
            <a:chOff x="1692360" y="1484280"/>
            <a:chExt cx="5472000" cy="1276560"/>
          </a:xfrm>
        </p:grpSpPr>
        <p:sp>
          <p:nvSpPr>
            <p:cNvPr id="444" name=""/>
            <p:cNvSpPr/>
            <p:nvPr/>
          </p:nvSpPr>
          <p:spPr>
            <a:xfrm>
              <a:off x="1692360" y="1700280"/>
              <a:ext cx="547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宋体"/>
                </a:rPr>
                <a:t> </a:t>
              </a: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a÷b=a:b=  </a:t>
              </a:r>
              <a:r>
                <a:rPr b="1" lang="zh-CN" sz="4000" spc="-1" strike="noStrike">
                  <a:solidFill>
                    <a:srgbClr val="007a77"/>
                  </a:solidFill>
                  <a:latin typeface="宋体"/>
                </a:rPr>
                <a:t>（</a:t>
              </a: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b≠0)</a:t>
              </a:r>
              <a:r>
                <a:rPr b="1" lang="en-US" sz="2400" spc="-1" strike="noStrike">
                  <a:solidFill>
                    <a:srgbClr val="007a77"/>
                  </a:solidFill>
                  <a:latin typeface="宋体"/>
                </a:rPr>
                <a:t>             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5" name=""/>
                <p:cNvSpPr txBox="1"/>
                <p:nvPr/>
              </p:nvSpPr>
              <p:spPr>
                <a:xfrm>
                  <a:off x="4500360" y="1484280"/>
                  <a:ext cx="779040" cy="127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6" name=""/>
          <p:cNvSpPr/>
          <p:nvPr/>
        </p:nvSpPr>
        <p:spPr>
          <a:xfrm>
            <a:off x="2556000" y="2852640"/>
            <a:ext cx="80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被除数和除数同时扩大（或缩小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相同的倍数，商不变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9640" y="5013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分数的分子和分母同时乘以或者除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以相同的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零除外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),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分数的大小不变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56000" y="3933720"/>
            <a:ext cx="102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比的前项和后项同时乘以或者除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相同 的数</a:t>
            </a: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零除外</a:t>
            </a: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),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比值不变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250920" y="189000"/>
            <a:ext cx="2160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关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50" name=""/>
          <p:cNvSpPr/>
          <p:nvPr/>
        </p:nvSpPr>
        <p:spPr>
          <a:xfrm>
            <a:off x="250920" y="2924280"/>
            <a:ext cx="2305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商不变的规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9280" y="4076640"/>
            <a:ext cx="216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比的基本性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5157720"/>
            <a:ext cx="241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分数的基本性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">
            <a:hlinkClick r:id="rId1" action="ppaction://hlinksldjump"/>
          </p:cNvPr>
          <p:cNvSpPr/>
          <p:nvPr/>
        </p:nvSpPr>
        <p:spPr>
          <a:xfrm>
            <a:off x="8101080" y="6102360"/>
            <a:ext cx="1042920" cy="755640"/>
          </a:xfrm>
          <a:custGeom>
            <a:avLst/>
            <a:gdLst>
              <a:gd name="textAreaLeft" fmla="*/ 48960 w 1042920"/>
              <a:gd name="textAreaRight" fmla="*/ 993960 w 104292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9808" h="21600">
                <a:moveTo>
                  <a:pt x="0" y="0"/>
                </a:moveTo>
                <a:lnTo>
                  <a:pt x="29808" y="0"/>
                </a:lnTo>
                <a:lnTo>
                  <a:pt x="29808" y="21600"/>
                </a:lnTo>
                <a:lnTo>
                  <a:pt x="0" y="21600"/>
                </a:lnTo>
                <a:close/>
              </a:path>
              <a:path fill="lightenLess" w="29808" h="21600">
                <a:moveTo>
                  <a:pt x="0" y="0"/>
                </a:moveTo>
                <a:lnTo>
                  <a:pt x="29808" y="0"/>
                </a:lnTo>
                <a:lnTo>
                  <a:pt x="28408" y="1400"/>
                </a:lnTo>
                <a:lnTo>
                  <a:pt x="1400" y="1400"/>
                </a:lnTo>
                <a:close/>
              </a:path>
              <a:path fill="darken" w="29808" h="21600">
                <a:moveTo>
                  <a:pt x="29808" y="0"/>
                </a:moveTo>
                <a:lnTo>
                  <a:pt x="29808" y="21600"/>
                </a:lnTo>
                <a:lnTo>
                  <a:pt x="28408" y="20200"/>
                </a:lnTo>
                <a:lnTo>
                  <a:pt x="28408" y="1400"/>
                </a:lnTo>
                <a:close/>
              </a:path>
              <a:path fill="darkenLess" w="29808" h="21600">
                <a:moveTo>
                  <a:pt x="298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08" y="20200"/>
                </a:lnTo>
                <a:close/>
              </a:path>
              <a:path fill="lighten" w="298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808" h="21600">
                <a:moveTo>
                  <a:pt x="14904" y="3837"/>
                </a:moveTo>
                <a:lnTo>
                  <a:pt x="17480" y="6448"/>
                </a:lnTo>
                <a:lnTo>
                  <a:pt x="17480" y="4707"/>
                </a:lnTo>
                <a:lnTo>
                  <a:pt x="19256" y="4707"/>
                </a:lnTo>
                <a:lnTo>
                  <a:pt x="19256" y="8224"/>
                </a:lnTo>
                <a:lnTo>
                  <a:pt x="21867" y="10800"/>
                </a:lnTo>
                <a:lnTo>
                  <a:pt x="20213" y="10800"/>
                </a:lnTo>
                <a:lnTo>
                  <a:pt x="20213" y="17989"/>
                </a:lnTo>
                <a:lnTo>
                  <a:pt x="9595" y="17989"/>
                </a:lnTo>
                <a:lnTo>
                  <a:pt x="9595" y="10800"/>
                </a:lnTo>
                <a:lnTo>
                  <a:pt x="7941" y="10800"/>
                </a:lnTo>
                <a:close/>
              </a:path>
              <a:path fill="darkenLess" w="29808" h="21600">
                <a:moveTo>
                  <a:pt x="17480" y="6448"/>
                </a:moveTo>
                <a:lnTo>
                  <a:pt x="17480" y="4707"/>
                </a:lnTo>
                <a:lnTo>
                  <a:pt x="19256" y="4707"/>
                </a:lnTo>
                <a:lnTo>
                  <a:pt x="19256" y="8224"/>
                </a:lnTo>
                <a:close/>
              </a:path>
              <a:path fill="darkenLess" w="29808" h="21600">
                <a:moveTo>
                  <a:pt x="13981" y="14299"/>
                </a:moveTo>
                <a:lnTo>
                  <a:pt x="15827" y="14299"/>
                </a:lnTo>
                <a:lnTo>
                  <a:pt x="15827" y="17989"/>
                </a:lnTo>
                <a:lnTo>
                  <a:pt x="20213" y="17989"/>
                </a:lnTo>
                <a:lnTo>
                  <a:pt x="20213" y="10800"/>
                </a:lnTo>
                <a:lnTo>
                  <a:pt x="9595" y="10800"/>
                </a:lnTo>
                <a:lnTo>
                  <a:pt x="9595" y="17989"/>
                </a:lnTo>
                <a:lnTo>
                  <a:pt x="13981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57360" y="1357920"/>
            <a:ext cx="798624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巩固练习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2÷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  ）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=3/4=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   ）：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6=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   ）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/ 12=(     )%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9 :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60%=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10=3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  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     ）小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   ）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÷16=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   ）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/  4=0.25=6 :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   ）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=3 /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095480" y="602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6" name="">
            <a:hlinkClick r:id="rId1" action="ppaction://hlinksldjump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8144" y="3837"/>
                </a:moveTo>
                <a:lnTo>
                  <a:pt x="20720" y="6448"/>
                </a:lnTo>
                <a:lnTo>
                  <a:pt x="20720" y="4707"/>
                </a:lnTo>
                <a:lnTo>
                  <a:pt x="22496" y="4707"/>
                </a:lnTo>
                <a:lnTo>
                  <a:pt x="22496" y="8224"/>
                </a:lnTo>
                <a:lnTo>
                  <a:pt x="25107" y="10800"/>
                </a:lnTo>
                <a:lnTo>
                  <a:pt x="23453" y="10800"/>
                </a:lnTo>
                <a:lnTo>
                  <a:pt x="23453" y="17989"/>
                </a:lnTo>
                <a:lnTo>
                  <a:pt x="12835" y="17989"/>
                </a:lnTo>
                <a:lnTo>
                  <a:pt x="12835" y="10800"/>
                </a:lnTo>
                <a:lnTo>
                  <a:pt x="11181" y="10800"/>
                </a:lnTo>
                <a:close/>
              </a:path>
              <a:path fill="darkenLess" w="36288" h="21600">
                <a:moveTo>
                  <a:pt x="20720" y="6448"/>
                </a:moveTo>
                <a:lnTo>
                  <a:pt x="20720" y="4707"/>
                </a:lnTo>
                <a:lnTo>
                  <a:pt x="22496" y="4707"/>
                </a:lnTo>
                <a:lnTo>
                  <a:pt x="22496" y="8224"/>
                </a:lnTo>
                <a:close/>
              </a:path>
              <a:path fill="darkenLess" w="36288" h="21600">
                <a:moveTo>
                  <a:pt x="17221" y="14299"/>
                </a:moveTo>
                <a:lnTo>
                  <a:pt x="19067" y="14299"/>
                </a:lnTo>
                <a:lnTo>
                  <a:pt x="19067" y="17989"/>
                </a:lnTo>
                <a:lnTo>
                  <a:pt x="23453" y="17989"/>
                </a:lnTo>
                <a:lnTo>
                  <a:pt x="23453" y="10800"/>
                </a:lnTo>
                <a:lnTo>
                  <a:pt x="12835" y="10800"/>
                </a:lnTo>
                <a:lnTo>
                  <a:pt x="12835" y="17989"/>
                </a:lnTo>
                <a:lnTo>
                  <a:pt x="17221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6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分数、小数的产生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162864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用一个单位的长度进行度量时，出现量不尽的情 形，这样可以将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个单位再平均分成几份，由此产生了分数。如果平均分成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份，就产生了小数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6553080" cy="1150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248000" cy="2319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219640" y="1484280"/>
            <a:ext cx="3564000" cy="2625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55640" y="378936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508720" y="4005360"/>
            <a:ext cx="3170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a8fea8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284720" y="3213000"/>
            <a:ext cx="216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分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488520" y="6237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意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7401960" y="6237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约分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5835960" y="623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基本性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>
            <a:hlinkClick r:id="rId4" action="ppaction://hlinksldjump"/>
          </p:cNvPr>
          <p:cNvSpPr/>
          <p:nvPr/>
        </p:nvSpPr>
        <p:spPr>
          <a:xfrm>
            <a:off x="4350600" y="623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与除法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>
            <a:hlinkClick r:id="rId5" action="ppaction://hlinksldjump"/>
          </p:cNvPr>
          <p:cNvSpPr/>
          <p:nvPr/>
        </p:nvSpPr>
        <p:spPr>
          <a:xfrm>
            <a:off x="2740320" y="623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大小比较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>
            <a:hlinkClick r:id="rId6" action="ppaction://hlinksldjump"/>
          </p:cNvPr>
          <p:cNvSpPr/>
          <p:nvPr/>
        </p:nvSpPr>
        <p:spPr>
          <a:xfrm>
            <a:off x="1569600" y="6237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分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42920" y="260280"/>
            <a:ext cx="54738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数学大闯关</a:t>
            </a:r>
            <a:endParaRPr b="1" i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9" name="Cloud"/>
          <p:cNvSpPr/>
          <p:nvPr/>
        </p:nvSpPr>
        <p:spPr>
          <a:xfrm>
            <a:off x="250920" y="3068640"/>
            <a:ext cx="3600360" cy="18381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第一关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98fe98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427640" y="2708280"/>
            <a:ext cx="2160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小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1" name="Cloud"/>
          <p:cNvSpPr/>
          <p:nvPr/>
        </p:nvSpPr>
        <p:spPr>
          <a:xfrm>
            <a:off x="755640" y="692280"/>
            <a:ext cx="3600360" cy="18381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第二关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272520" y="616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意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120880" y="616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改写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57600" y="616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循环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20880" y="616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分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85960" y="616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移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4108680" y="6165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大小比较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3225240" y="616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性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2577600" y="616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读写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971640" y="6165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顺序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1928160" y="616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练习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85fe85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Cloud"/>
          <p:cNvSpPr/>
          <p:nvPr/>
        </p:nvSpPr>
        <p:spPr>
          <a:xfrm>
            <a:off x="755640" y="692280"/>
            <a:ext cx="3600360" cy="18381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第三关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24360" y="2421000"/>
            <a:ext cx="3240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百分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11640" y="4076640"/>
            <a:ext cx="2736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互化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5" name=""/>
          <p:cNvSpPr/>
          <p:nvPr/>
        </p:nvSpPr>
        <p:spPr>
          <a:xfrm>
            <a:off x="632880" y="6237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意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4520" y="616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互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89240" y="623736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分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小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49240" y="623736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小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百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04880" y="623736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百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分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6cfe6c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loud"/>
          <p:cNvSpPr/>
          <p:nvPr/>
        </p:nvSpPr>
        <p:spPr>
          <a:xfrm>
            <a:off x="755640" y="692280"/>
            <a:ext cx="3600360" cy="18381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第四关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0" y="2852640"/>
            <a:ext cx="1440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比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2" name=""/>
          <p:cNvSpPr/>
          <p:nvPr/>
        </p:nvSpPr>
        <p:spPr>
          <a:xfrm>
            <a:off x="1379160" y="6237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比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39680" y="6165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求比值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88880" y="616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化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07:57Z</dcterms:created>
  <dc:creator/>
  <dc:description/>
  <dc:language>en-US</dc:language>
  <cp:lastModifiedBy>雨林木风</cp:lastModifiedBy>
  <cp:lastPrinted>1899-12-30T00:00:00Z</cp:lastPrinted>
  <dcterms:modified xsi:type="dcterms:W3CDTF">2013-12-02T16:20:4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11</vt:lpwstr>
  </property>
  <property fmtid="{D5CDD505-2E9C-101B-9397-08002B2CF9AE}" pid="3" name="NXTAG2">
    <vt:lpwstr>0008009001000000000001024120</vt:lpwstr>
  </property>
</Properties>
</file>